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3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7047000" cy="992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7000" y="74088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5320" y="4695840"/>
            <a:ext cx="5006880" cy="444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2"/>
          </p:nvPr>
        </p:nvSpPr>
        <p:spPr>
          <a:xfrm>
            <a:off x="3882960" y="939132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C1A648-5AE6-47A4-A98F-48D264922A5F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2960" y="939168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8D4AF1-F91A-4AE3-8A4F-6C5EE11C2BE5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5320" y="4695840"/>
            <a:ext cx="500688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2960" y="939168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A20FDB-01BC-4F56-B1B8-28BD8CE54C33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5320" y="4695840"/>
            <a:ext cx="500688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2D69-3E07-4ACD-944A-637B54F1C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18EF-5D24-435F-B377-CAA8BF212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AC0F-B0EE-454F-869E-4A8E361D1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89B0-F931-434A-99FF-7A2C32F3B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74437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39B3-CBF6-4682-AD1A-F69D39487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81C1-755A-4C57-93FE-50FB50977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240E-CCE5-4AA5-8666-0F0727531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75E6-3795-406B-B3DB-E07E9C566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74437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33E3-0155-4839-A3B9-2DEFC8A83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46DD-C706-4B4A-81EE-080D1092C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2865-6156-4737-9076-8B023545C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2F7D-29D9-45BA-801C-D471D4CCE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4B45-C9DE-446F-8C82-FD6A3422B79D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| Labo commun| “Réseaux auto-organisés” | Juillet 2008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" name="Picture 37" descr="AlcatelLucent_Hor_2col_lrg"/>
          <p:cNvPicPr/>
          <p:nvPr/>
        </p:nvPicPr>
        <p:blipFill>
          <a:blip r:embed="rId2"/>
          <a:srcRect l="0" t="21965" r="0" b="19031"/>
          <a:stretch/>
        </p:blipFill>
        <p:spPr>
          <a:xfrm>
            <a:off x="6300720" y="6453360"/>
            <a:ext cx="1538280" cy="315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27000" bIns="-2700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AutoShape 12">
            <a:hlinkClick r:id="rId3" action="ppaction://hlinksldjump"/>
          </p:cNvPr>
          <p:cNvSpPr/>
          <p:nvPr/>
        </p:nvSpPr>
        <p:spPr>
          <a:xfrm>
            <a:off x="8147160" y="293760"/>
            <a:ext cx="482400" cy="460440"/>
          </a:xfrm>
          <a:custGeom>
            <a:avLst/>
            <a:gdLst>
              <a:gd name="textAreaLeft" fmla="*/ 29520 w 482400"/>
              <a:gd name="textAreaRight" fmla="*/ 452880 w 48240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22629" h="21600">
                <a:moveTo>
                  <a:pt x="0" y="0"/>
                </a:moveTo>
                <a:lnTo>
                  <a:pt x="22629" y="0"/>
                </a:lnTo>
                <a:lnTo>
                  <a:pt x="22629" y="21600"/>
                </a:lnTo>
                <a:lnTo>
                  <a:pt x="0" y="21600"/>
                </a:lnTo>
                <a:close/>
              </a:path>
              <a:path fill="lightenLess" w="22629" h="21600">
                <a:moveTo>
                  <a:pt x="0" y="0"/>
                </a:moveTo>
                <a:lnTo>
                  <a:pt x="22629" y="0"/>
                </a:lnTo>
                <a:lnTo>
                  <a:pt x="21229" y="1400"/>
                </a:lnTo>
                <a:lnTo>
                  <a:pt x="1400" y="1400"/>
                </a:lnTo>
                <a:close/>
              </a:path>
              <a:path fill="darken" w="22629" h="21600">
                <a:moveTo>
                  <a:pt x="22629" y="0"/>
                </a:moveTo>
                <a:lnTo>
                  <a:pt x="22629" y="21600"/>
                </a:lnTo>
                <a:lnTo>
                  <a:pt x="21229" y="20200"/>
                </a:lnTo>
                <a:lnTo>
                  <a:pt x="21229" y="1400"/>
                </a:lnTo>
                <a:close/>
              </a:path>
              <a:path fill="darkenLess" w="22629" h="21600">
                <a:moveTo>
                  <a:pt x="22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29" y="20200"/>
                </a:lnTo>
                <a:close/>
              </a:path>
              <a:path fill="lighten" w="22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29" h="21600">
                <a:moveTo>
                  <a:pt x="7816" y="10800"/>
                </a:moveTo>
                <a:lnTo>
                  <a:pt x="18321" y="3794"/>
                </a:lnTo>
                <a:lnTo>
                  <a:pt x="18321" y="17806"/>
                </a:lnTo>
                <a:close/>
              </a:path>
              <a:path fill="darken" w="22629" h="21600">
                <a:moveTo>
                  <a:pt x="4308" y="3794"/>
                </a:moveTo>
                <a:lnTo>
                  <a:pt x="5971" y="3794"/>
                </a:lnTo>
                <a:lnTo>
                  <a:pt x="5971" y="17806"/>
                </a:lnTo>
                <a:lnTo>
                  <a:pt x="4308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" name="Image 6" descr="inria-logo-mail.jpg"/>
          <p:cNvPicPr/>
          <p:nvPr/>
        </p:nvPicPr>
        <p:blipFill>
          <a:blip r:embed="rId4"/>
          <a:stretch/>
        </p:blipFill>
        <p:spPr>
          <a:xfrm>
            <a:off x="7848720" y="6330960"/>
            <a:ext cx="106524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Rectangle 66"/>
          <p:cNvSpPr/>
          <p:nvPr/>
        </p:nvSpPr>
        <p:spPr>
          <a:xfrm>
            <a:off x="3240" y="2273400"/>
            <a:ext cx="9140760" cy="2286000"/>
          </a:xfrm>
          <a:prstGeom prst="rect">
            <a:avLst/>
          </a:prstGeom>
          <a:solidFill>
            <a:srgbClr val="00b5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" name="Picture 67" descr=""/>
          <p:cNvPicPr/>
          <p:nvPr/>
        </p:nvPicPr>
        <p:blipFill>
          <a:blip r:embed="rId2"/>
          <a:stretch/>
        </p:blipFill>
        <p:spPr>
          <a:xfrm>
            <a:off x="6862680" y="2265480"/>
            <a:ext cx="2279880" cy="227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points"/>
          <p:cNvPicPr/>
          <p:nvPr/>
        </p:nvPicPr>
        <p:blipFill>
          <a:blip r:embed="rId3"/>
          <a:stretch/>
        </p:blipFill>
        <p:spPr>
          <a:xfrm>
            <a:off x="816120" y="4145040"/>
            <a:ext cx="754380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8" descr="mississippi_delta_small"/>
          <p:cNvPicPr/>
          <p:nvPr/>
        </p:nvPicPr>
        <p:blipFill>
          <a:blip r:embed="rId4"/>
          <a:stretch/>
        </p:blipFill>
        <p:spPr>
          <a:xfrm>
            <a:off x="6854760" y="2271600"/>
            <a:ext cx="2301840" cy="228132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pic>
        <p:nvPicPr>
          <p:cNvPr id="52" name="Picture 19" descr="logo AL"/>
          <p:cNvPicPr/>
          <p:nvPr/>
        </p:nvPicPr>
        <p:blipFill>
          <a:blip r:embed="rId5"/>
          <a:stretch/>
        </p:blipFill>
        <p:spPr>
          <a:xfrm>
            <a:off x="803160" y="284040"/>
            <a:ext cx="2654280" cy="557280"/>
          </a:xfrm>
          <a:prstGeom prst="rect">
            <a:avLst/>
          </a:prstGeom>
          <a:ln w="0">
            <a:noFill/>
          </a:ln>
        </p:spPr>
      </p:pic>
      <p:pic>
        <p:nvPicPr>
          <p:cNvPr id="53" name="Image 6" descr="inria-logo-mail.jpg"/>
          <p:cNvPicPr/>
          <p:nvPr/>
        </p:nvPicPr>
        <p:blipFill>
          <a:blip r:embed="rId6"/>
          <a:stretch/>
        </p:blipFill>
        <p:spPr>
          <a:xfrm>
            <a:off x="5902200" y="0"/>
            <a:ext cx="2378160" cy="992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inria.fr/" TargetMode="External"/><Relationship Id="rId3" Type="http://schemas.openxmlformats.org/officeDocument/2006/relationships/hyperlink" Target="http://www.alcatel-lucent.com/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1920" y="2463480"/>
            <a:ext cx="62578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Inria / Alcatel Lucent Bell Lab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ommon Lab</a:t>
            </a:r>
            <a:br>
              <a:rPr sz="3000"/>
            </a:br>
            <a:r>
              <a:rPr b="0" i="1" lang="en-US" sz="3000" spc="-1" strike="noStrike">
                <a:solidFill>
                  <a:srgbClr val="ffffff"/>
                </a:solidFill>
                <a:latin typeface="Trebuchet MS"/>
              </a:rPr>
              <a:t>sharing a vision of research</a:t>
            </a:r>
            <a:br>
              <a:rPr sz="3000"/>
            </a:br>
            <a:endParaRPr b="0" lang="en-US" sz="30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3440" y="4935240"/>
            <a:ext cx="6238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O. Audouin &amp; Albert Benvenis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Espace réservé du numéro de diapositive 1"/>
          <p:cNvSpPr/>
          <p:nvPr/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8CF6-CAB5-4B00-ADD1-460E083B76D8}" type="slidenum">
              <a:rPr b="0" lang="en-GB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| Labo commun| “Réseaux auto-organisés” | Juillet 2008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0" y="297504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0" y="2475000"/>
            <a:ext cx="9136080" cy="2286000"/>
          </a:xfrm>
          <a:prstGeom prst="rect">
            <a:avLst/>
          </a:prstGeom>
          <a:gradFill rotWithShape="0">
            <a:gsLst>
              <a:gs pos="0">
                <a:srgbClr val="00b9e1"/>
              </a:gs>
              <a:gs pos="50000">
                <a:srgbClr val="aee9f5"/>
              </a:gs>
              <a:gs pos="100000">
                <a:srgbClr val="00b9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9" descr="dots-end"/>
          <p:cNvPicPr/>
          <p:nvPr/>
        </p:nvPicPr>
        <p:blipFill>
          <a:blip r:embed="rId1"/>
          <a:stretch/>
        </p:blipFill>
        <p:spPr>
          <a:xfrm>
            <a:off x="4118040" y="4626000"/>
            <a:ext cx="4927680" cy="5684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3"/>
          <p:cNvSpPr/>
          <p:nvPr/>
        </p:nvSpPr>
        <p:spPr>
          <a:xfrm>
            <a:off x="-760320" y="2008080"/>
            <a:ext cx="596088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5000"/>
              </a:spcBef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800" spc="-1" strike="noStrike">
                <a:solidFill>
                  <a:srgbClr val="969696"/>
                </a:solidFill>
                <a:latin typeface="Trebuchet MS"/>
              </a:rPr>
              <a:t>w</a:t>
            </a:r>
            <a:r>
              <a:rPr b="0" lang="fr-FR" sz="12900" spc="-1" strike="noStrike">
                <a:solidFill>
                  <a:srgbClr val="969696"/>
                </a:solidFill>
                <a:latin typeface="Trebuchet MS"/>
              </a:rPr>
              <a:t>w</a:t>
            </a:r>
            <a:r>
              <a:rPr b="0" lang="fr-FR" sz="8000" spc="-1" strike="noStrike">
                <a:solidFill>
                  <a:srgbClr val="969696"/>
                </a:solidFill>
                <a:latin typeface="Trebuchet MS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4102200" y="4011480"/>
            <a:ext cx="1490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.inria.f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2224080" y="3065400"/>
            <a:ext cx="35622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ff"/>
                </a:solidFill>
                <a:uFillTx/>
                <a:latin typeface="Trebuchet MS"/>
                <a:hlinkClick r:id="rId3"/>
              </a:rPr>
              <a:t>.alcatel-lucent.co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0" y="2475000"/>
            <a:ext cx="91440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17" descr="logo AL"/>
          <p:cNvPicPr/>
          <p:nvPr/>
        </p:nvPicPr>
        <p:blipFill>
          <a:blip r:embed="rId4"/>
          <a:stretch/>
        </p:blipFill>
        <p:spPr>
          <a:xfrm>
            <a:off x="6002280" y="816120"/>
            <a:ext cx="2286000" cy="479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logo AL"/>
          <p:cNvPicPr/>
          <p:nvPr/>
        </p:nvPicPr>
        <p:blipFill>
          <a:blip r:embed="rId5"/>
          <a:stretch/>
        </p:blipFill>
        <p:spPr>
          <a:xfrm>
            <a:off x="879480" y="809640"/>
            <a:ext cx="2505240" cy="525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logo_inria"/>
          <p:cNvPicPr/>
          <p:nvPr/>
        </p:nvPicPr>
        <p:blipFill>
          <a:blip r:embed="rId6"/>
          <a:stretch/>
        </p:blipFill>
        <p:spPr>
          <a:xfrm>
            <a:off x="5932440" y="743040"/>
            <a:ext cx="2367000" cy="5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A bit of history…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C781-9931-4861-B2F6-6083849C3B9C}" type="slidenum">
              <a:rPr b="0" lang="en-GB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| Labo commun| “evaluation” | March 2012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Flèche droite 5"/>
          <p:cNvSpPr/>
          <p:nvPr/>
        </p:nvSpPr>
        <p:spPr>
          <a:xfrm>
            <a:off x="682560" y="3260880"/>
            <a:ext cx="7720200" cy="3967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ZoneTexte 6"/>
          <p:cNvSpPr/>
          <p:nvPr/>
        </p:nvSpPr>
        <p:spPr>
          <a:xfrm>
            <a:off x="958680" y="3041640"/>
            <a:ext cx="730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7477200" y="3036960"/>
            <a:ext cx="73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5280120" y="3041640"/>
            <a:ext cx="73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ZoneTexte 10"/>
          <p:cNvSpPr/>
          <p:nvPr/>
        </p:nvSpPr>
        <p:spPr>
          <a:xfrm>
            <a:off x="3198960" y="3036960"/>
            <a:ext cx="73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ZoneTexte 11"/>
          <p:cNvSpPr/>
          <p:nvPr/>
        </p:nvSpPr>
        <p:spPr>
          <a:xfrm>
            <a:off x="732240" y="3652920"/>
            <a:ext cx="1185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lcatel-Inri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. Benvenist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G. Giraudo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. Carenc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ZoneTexte 12"/>
          <p:cNvSpPr/>
          <p:nvPr/>
        </p:nvSpPr>
        <p:spPr>
          <a:xfrm>
            <a:off x="819360" y="1995480"/>
            <a:ext cx="10098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from ATM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to IP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ZoneTexte 14"/>
          <p:cNvSpPr/>
          <p:nvPr/>
        </p:nvSpPr>
        <p:spPr>
          <a:xfrm>
            <a:off x="2767320" y="1898640"/>
            <a:ext cx="15919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GPR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Optical network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QoS for IP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ZoneTexte 15"/>
          <p:cNvSpPr/>
          <p:nvPr/>
        </p:nvSpPr>
        <p:spPr>
          <a:xfrm>
            <a:off x="4925520" y="1995480"/>
            <a:ext cx="14396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Self-organizing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Autonomic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ZoneTexte 16"/>
          <p:cNvSpPr/>
          <p:nvPr/>
        </p:nvSpPr>
        <p:spPr>
          <a:xfrm>
            <a:off x="7396200" y="1898640"/>
            <a:ext cx="10922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Clou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Gre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rebuchet MS"/>
              </a:rPr>
              <a:t>Autonomic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ZoneTexte 18"/>
          <p:cNvSpPr/>
          <p:nvPr/>
        </p:nvSpPr>
        <p:spPr>
          <a:xfrm>
            <a:off x="2989800" y="3652920"/>
            <a:ext cx="11484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lcat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. Benvenist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. Carenc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ZoneTexte 19"/>
          <p:cNvSpPr/>
          <p:nvPr/>
        </p:nvSpPr>
        <p:spPr>
          <a:xfrm>
            <a:off x="4993920" y="3657600"/>
            <a:ext cx="130104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LU-B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nri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ommon Lab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hase 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. Benvenist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O. Audoui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ZoneTexte 20"/>
          <p:cNvSpPr/>
          <p:nvPr/>
        </p:nvSpPr>
        <p:spPr>
          <a:xfrm>
            <a:off x="7191720" y="3652920"/>
            <a:ext cx="130104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LU-B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nri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ommon Lab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hase 2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. Benvenist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O. Audoui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A light weight structure (Phase 1: 2008-2011)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5" name="Espace réservé du numéro de diapositive 2"/>
          <p:cNvSpPr/>
          <p:nvPr/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EA0A-86EF-4C5C-8C8F-ADA29249A03B}" type="slidenum">
              <a:rPr b="0" lang="en-GB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| Labo commun| “evaluation” | March 2012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Picture 2" descr="Carte de France routière"/>
          <p:cNvPicPr/>
          <p:nvPr/>
        </p:nvPicPr>
        <p:blipFill>
          <a:blip r:embed="rId1"/>
          <a:stretch/>
        </p:blipFill>
        <p:spPr>
          <a:xfrm>
            <a:off x="2857680" y="1785960"/>
            <a:ext cx="4705200" cy="4491000"/>
          </a:xfrm>
          <a:prstGeom prst="rect">
            <a:avLst/>
          </a:prstGeom>
          <a:ln w="0">
            <a:noFill/>
          </a:ln>
        </p:spPr>
      </p:pic>
      <p:sp>
        <p:nvSpPr>
          <p:cNvPr id="117" name="Ellipse 27"/>
          <p:cNvSpPr/>
          <p:nvPr/>
        </p:nvSpPr>
        <p:spPr>
          <a:xfrm>
            <a:off x="3870360" y="3346560"/>
            <a:ext cx="14436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Ellipse 29"/>
          <p:cNvSpPr/>
          <p:nvPr/>
        </p:nvSpPr>
        <p:spPr>
          <a:xfrm>
            <a:off x="6573960" y="306540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Ellipse 30"/>
          <p:cNvSpPr/>
          <p:nvPr/>
        </p:nvSpPr>
        <p:spPr>
          <a:xfrm>
            <a:off x="6124680" y="4551480"/>
            <a:ext cx="14436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Ellipse 31"/>
          <p:cNvSpPr/>
          <p:nvPr/>
        </p:nvSpPr>
        <p:spPr>
          <a:xfrm>
            <a:off x="6353280" y="46306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Ellipse 32"/>
          <p:cNvSpPr/>
          <p:nvPr/>
        </p:nvSpPr>
        <p:spPr>
          <a:xfrm>
            <a:off x="6888240" y="5535720"/>
            <a:ext cx="14436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Ellipse 33"/>
          <p:cNvSpPr/>
          <p:nvPr/>
        </p:nvSpPr>
        <p:spPr>
          <a:xfrm>
            <a:off x="5275440" y="2940120"/>
            <a:ext cx="14436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Ellipse 34"/>
          <p:cNvSpPr/>
          <p:nvPr/>
        </p:nvSpPr>
        <p:spPr>
          <a:xfrm>
            <a:off x="5348160" y="306540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Ellipse 35"/>
          <p:cNvSpPr/>
          <p:nvPr/>
        </p:nvSpPr>
        <p:spPr>
          <a:xfrm>
            <a:off x="6004080" y="1712880"/>
            <a:ext cx="144360" cy="14436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ZoneTexte 28"/>
          <p:cNvSpPr/>
          <p:nvPr/>
        </p:nvSpPr>
        <p:spPr>
          <a:xfrm>
            <a:off x="957240" y="3935520"/>
            <a:ext cx="1197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Trebuchet MS"/>
              </a:rPr>
              <a:t>Murray-Hil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Flèche gauche 38"/>
          <p:cNvSpPr/>
          <p:nvPr/>
        </p:nvSpPr>
        <p:spPr>
          <a:xfrm>
            <a:off x="1208160" y="4189320"/>
            <a:ext cx="695160" cy="9216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b0f0"/>
          </a:solidFill>
          <a:ln w="190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ZoneTexte 40"/>
          <p:cNvSpPr/>
          <p:nvPr/>
        </p:nvSpPr>
        <p:spPr>
          <a:xfrm>
            <a:off x="7461360" y="2443320"/>
            <a:ext cx="1197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Trebuchet MS"/>
              </a:rPr>
              <a:t>(Stuttgart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Flèche gauche 41"/>
          <p:cNvSpPr/>
          <p:nvPr/>
        </p:nvSpPr>
        <p:spPr>
          <a:xfrm flipH="1">
            <a:off x="7711920" y="2697120"/>
            <a:ext cx="695520" cy="92160"/>
          </a:xfrm>
          <a:prstGeom prst="leftArrow">
            <a:avLst>
              <a:gd name="adj1" fmla="val 50000"/>
              <a:gd name="adj2" fmla="val 50068"/>
            </a:avLst>
          </a:prstGeom>
          <a:solidFill>
            <a:srgbClr val="00b0f0"/>
          </a:solidFill>
          <a:ln w="190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ZoneTexte 42"/>
          <p:cNvSpPr/>
          <p:nvPr/>
        </p:nvSpPr>
        <p:spPr>
          <a:xfrm>
            <a:off x="5477040" y="1454040"/>
            <a:ext cx="1196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Trebuchet MS"/>
              </a:rPr>
              <a:t>(Antwerpen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ZoneTexte 39"/>
          <p:cNvSpPr/>
          <p:nvPr/>
        </p:nvSpPr>
        <p:spPr>
          <a:xfrm>
            <a:off x="318960" y="1793880"/>
            <a:ext cx="253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55 researc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5 Ph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1 Post-Doc × y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1"/>
          <p:cNvSpPr/>
          <p:nvPr/>
        </p:nvSpPr>
        <p:spPr>
          <a:xfrm>
            <a:off x="2814480" y="2921040"/>
            <a:ext cx="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A light weight structure (Phase 1: 2008-2011)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86DA-9D7C-4CDB-90C6-BBF41B93D70E}" type="slidenum">
              <a:rPr b="0" lang="en-GB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| Labo commun| “evaluation” | March 2012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407360" y="3808440"/>
            <a:ext cx="6120" cy="67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5114880" y="380844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2814480" y="380844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781280" y="4307040"/>
            <a:ext cx="2049480" cy="10530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High Manageability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rebuchet MS"/>
              </a:rPr>
              <a:t>P. Peloso (ALU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rebuchet MS"/>
              </a:rPr>
              <a:t>E. Fabre (Inria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654200" y="3384720"/>
            <a:ext cx="6845400" cy="42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8172360" y="3384720"/>
            <a:ext cx="647640" cy="42048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2240" bIns="10224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1336680" y="3376440"/>
            <a:ext cx="647640" cy="42876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6560" bIns="10656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6105600" y="2982960"/>
            <a:ext cx="0" cy="40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719360" y="3338640"/>
            <a:ext cx="6737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rebuchet MS"/>
              </a:rPr>
              <a:t>Brainstorming,  Semin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700280" y="1987560"/>
            <a:ext cx="2057400" cy="94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irector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Trebuchet MS"/>
              </a:rPr>
              <a:t>O. Audouin (ALU)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Trebuchet MS"/>
              </a:rPr>
              <a:t>A. Benveniste (Inria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380280" y="4307040"/>
            <a:ext cx="2350800" cy="10803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elf-Optimised Wireless Network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rebuchet MS"/>
              </a:rPr>
              <a:t>L. Roullet (ALU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rebuchet MS"/>
              </a:rPr>
              <a:t>B. Gaujal &amp; V. Roca (Inria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051440" y="4307040"/>
            <a:ext cx="2087280" cy="14086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emantic Networking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rebuchet MS"/>
              </a:rPr>
              <a:t>L. Noirie (ALU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rebuchet MS"/>
              </a:rPr>
              <a:t>I. Guerrin-Lassous (Inria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02040" y="1981080"/>
            <a:ext cx="4541760" cy="1044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CIENTIFIC COMMITTE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7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Trebuchet MS"/>
              </a:rPr>
              <a:t>F. Baccelli, W. Dabbous (Inria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7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Trebuchet MS"/>
              </a:rPr>
              <a:t>V. Kumar, L. Thomas, M. Vigoureux (ALU-BL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ZoneTexte 21"/>
          <p:cNvSpPr/>
          <p:nvPr/>
        </p:nvSpPr>
        <p:spPr>
          <a:xfrm>
            <a:off x="91440" y="1996920"/>
            <a:ext cx="107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fi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ateg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ZoneTexte 22"/>
          <p:cNvSpPr/>
          <p:nvPr/>
        </p:nvSpPr>
        <p:spPr>
          <a:xfrm>
            <a:off x="90000" y="4390920"/>
            <a:ext cx="10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ZoneTexte 25"/>
          <p:cNvSpPr/>
          <p:nvPr/>
        </p:nvSpPr>
        <p:spPr>
          <a:xfrm>
            <a:off x="89640" y="328284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ar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Vi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ZoneTexte 20"/>
          <p:cNvSpPr/>
          <p:nvPr/>
        </p:nvSpPr>
        <p:spPr>
          <a:xfrm>
            <a:off x="431640" y="1055520"/>
            <a:ext cx="8237520" cy="34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rebuchet MS"/>
              </a:rPr>
              <a:t>Cost of operating the structure </a:t>
            </a:r>
            <a:r>
              <a:rPr b="0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70c0"/>
                </a:solidFill>
                <a:latin typeface="Trebuchet MS"/>
              </a:rPr>
              <a:t> 10 days / year for each Directo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Results of Phase 1: key figure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ublications: 95 (among whic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5% are joint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tents: 1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ed technologies (industrialization in progress or for consideration)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utonomic Channel Power Tuning in an Optical Network; distributed constrained convex optimiz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lf-configuration and self-tuning of wireless cellular networks; 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Voronoi based models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verage processes, random spatial trees, Gibbs random 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field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low aware routing based on DPI and statistical analys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jects born: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IP-Univerself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(HiMa),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ANR-ARSS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fr-FR" sz="1800" spc="-1" strike="noStrike">
                <a:solidFill>
                  <a:srgbClr val="000000"/>
                </a:solidFill>
                <a:latin typeface="Trebuchet MS"/>
              </a:rPr>
              <a:t>ECOSCELL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SelfNets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ople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lvin Chen TREC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BL Villarceaux + LINC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Amira Alloum 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 software architect in wireless BD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3F85-8510-4FCE-9877-4EA7A6990D2D}" type="slidenum">
              <a:rPr b="0" lang="en-GB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| Labo commun| “evaluation” | March 2012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6400" y="1181160"/>
            <a:ext cx="422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430200" y="71280"/>
            <a:ext cx="7443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Two sample results: Autonomic Wavelength Power Tuning in a Photonic Networ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7" name="Image 5" descr="topologie4.pdf"/>
          <p:cNvPicPr/>
          <p:nvPr/>
        </p:nvPicPr>
        <p:blipFill>
          <a:blip r:embed="rId1"/>
          <a:stretch/>
        </p:blipFill>
        <p:spPr>
          <a:xfrm>
            <a:off x="5433840" y="1031760"/>
            <a:ext cx="3232440" cy="250344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er 6"/>
          <p:cNvGrpSpPr/>
          <p:nvPr/>
        </p:nvGrpSpPr>
        <p:grpSpPr>
          <a:xfrm>
            <a:off x="5483160" y="3747960"/>
            <a:ext cx="3046320" cy="2413080"/>
            <a:chOff x="5483160" y="3747960"/>
            <a:chExt cx="3046320" cy="2413080"/>
          </a:xfrm>
        </p:grpSpPr>
        <p:pic>
          <p:nvPicPr>
            <p:cNvPr id="159" name="Image 7" descr="reglages3.pdf"/>
            <p:cNvPicPr/>
            <p:nvPr/>
          </p:nvPicPr>
          <p:blipFill>
            <a:blip r:embed="rId2"/>
            <a:stretch/>
          </p:blipFill>
          <p:spPr>
            <a:xfrm>
              <a:off x="5483160" y="3759840"/>
              <a:ext cx="3046320" cy="240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ZoneTexte 8"/>
            <p:cNvSpPr/>
            <p:nvPr/>
          </p:nvSpPr>
          <p:spPr>
            <a:xfrm>
              <a:off x="6616440" y="3747960"/>
              <a:ext cx="723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target value</a:t>
              </a:r>
              <a:endParaRPr b="0" lang="en-US" sz="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ZoneTexte 9"/>
            <p:cNvSpPr/>
            <p:nvPr/>
          </p:nvSpPr>
          <p:spPr>
            <a:xfrm>
              <a:off x="6661440" y="4160520"/>
              <a:ext cx="8139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wavelength power level</a:t>
              </a:r>
              <a:endParaRPr b="0" lang="en-US" sz="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ZoneTexte 10"/>
            <p:cNvSpPr/>
            <p:nvPr/>
          </p:nvSpPr>
          <p:spPr>
            <a:xfrm>
              <a:off x="6594480" y="3980160"/>
              <a:ext cx="10116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accessible range</a:t>
              </a:r>
              <a:endParaRPr b="0" lang="en-US" sz="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ZoneTexte 11"/>
            <p:cNvSpPr/>
            <p:nvPr/>
          </p:nvSpPr>
          <p:spPr>
            <a:xfrm>
              <a:off x="6669360" y="4627800"/>
              <a:ext cx="114948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total power in the link</a:t>
              </a:r>
              <a:endParaRPr b="0" lang="en-US" sz="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164" name="Connecteur droit avec flèche 23"/>
            <p:cNvCxnSpPr/>
            <p:nvPr/>
          </p:nvCxnSpPr>
          <p:spPr>
            <a:xfrm flipH="1">
              <a:off x="6074280" y="3873240"/>
              <a:ext cx="587880" cy="103680"/>
            </a:xfrm>
            <a:prstGeom prst="straightConnector1">
              <a:avLst/>
            </a:prstGeom>
            <a:ln w="25560">
              <a:solidFill>
                <a:srgbClr val="688b00"/>
              </a:solidFill>
              <a:miter/>
              <a:tailEnd len="med" type="arrow" w="med"/>
            </a:ln>
          </p:spPr>
        </p:cxnSp>
        <p:cxnSp>
          <p:nvCxnSpPr>
            <p:cNvPr id="165" name="Connecteur droit avec flèche 24"/>
            <p:cNvCxnSpPr/>
            <p:nvPr/>
          </p:nvCxnSpPr>
          <p:spPr>
            <a:xfrm flipH="1" flipV="1">
              <a:off x="6085800" y="4020120"/>
              <a:ext cx="568800" cy="84600"/>
            </a:xfrm>
            <a:prstGeom prst="straightConnector1">
              <a:avLst/>
            </a:prstGeom>
            <a:ln w="25560">
              <a:solidFill>
                <a:srgbClr val="688b00"/>
              </a:solidFill>
              <a:miter/>
              <a:tailEnd len="med" type="arrow" w="med"/>
            </a:ln>
          </p:spPr>
        </p:cxnSp>
        <p:cxnSp>
          <p:nvCxnSpPr>
            <p:cNvPr id="166" name="Connecteur droit avec flèche 25"/>
            <p:cNvCxnSpPr>
              <a:stCxn id="161" idx="1"/>
            </p:cNvCxnSpPr>
            <p:nvPr/>
          </p:nvCxnSpPr>
          <p:spPr>
            <a:xfrm flipH="1" flipV="1">
              <a:off x="6062400" y="4145760"/>
              <a:ext cx="598680" cy="175320"/>
            </a:xfrm>
            <a:prstGeom prst="straightConnector1">
              <a:avLst/>
            </a:prstGeom>
            <a:ln w="25560">
              <a:solidFill>
                <a:srgbClr val="688b00"/>
              </a:solidFill>
              <a:miter/>
              <a:tailEnd len="med" type="arrow" w="med"/>
            </a:ln>
          </p:spPr>
        </p:cxnSp>
        <p:cxnSp>
          <p:nvCxnSpPr>
            <p:cNvPr id="167" name="Connecteur droit avec flèche 26"/>
            <p:cNvCxnSpPr/>
            <p:nvPr/>
          </p:nvCxnSpPr>
          <p:spPr>
            <a:xfrm flipH="1">
              <a:off x="6255720" y="4743720"/>
              <a:ext cx="473760" cy="1080"/>
            </a:xfrm>
            <a:prstGeom prst="straightConnector1">
              <a:avLst/>
            </a:prstGeom>
            <a:ln w="25560">
              <a:solidFill>
                <a:srgbClr val="688b00"/>
              </a:solidFill>
              <a:miter/>
              <a:tailEnd len="med" type="arrow" w="med"/>
            </a:ln>
          </p:spPr>
        </p:cxnSp>
        <p:cxnSp>
          <p:nvCxnSpPr>
            <p:cNvPr id="168" name="Connecteur droit avec flèche 27"/>
            <p:cNvCxnSpPr/>
            <p:nvPr/>
          </p:nvCxnSpPr>
          <p:spPr>
            <a:xfrm flipH="1">
              <a:off x="6287040" y="4538880"/>
              <a:ext cx="446760" cy="1080"/>
            </a:xfrm>
            <a:prstGeom prst="straightConnector1">
              <a:avLst/>
            </a:prstGeom>
            <a:ln w="25560">
              <a:solidFill>
                <a:srgbClr val="688b00"/>
              </a:solidFill>
              <a:miter/>
              <a:tailEnd len="med" type="arrow" w="med"/>
            </a:ln>
          </p:spPr>
        </p:cxnSp>
        <p:sp>
          <p:nvSpPr>
            <p:cNvPr id="169" name="ZoneTexte 17"/>
            <p:cNvSpPr/>
            <p:nvPr/>
          </p:nvSpPr>
          <p:spPr>
            <a:xfrm>
              <a:off x="6665400" y="4418280"/>
              <a:ext cx="114948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total power bound</a:t>
              </a:r>
              <a:endParaRPr b="0" lang="en-US" sz="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Espace réservé du contenu 4"/>
          <p:cNvSpPr/>
          <p:nvPr/>
        </p:nvSpPr>
        <p:spPr>
          <a:xfrm>
            <a:off x="316080" y="1149480"/>
            <a:ext cx="411948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8120" indent="-16812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Challenges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optimize optical reach without regener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optimize &amp; equalize quality of all connection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  <a:ea typeface="Arial"/>
              </a:rPr>
              <a:t>avoid manual tuning, and over-dimensioning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better use of available resource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Distributed and adaptive solution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uge non-linear constrained optimization problem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  <a:ea typeface="Arial"/>
              </a:rPr>
              <a:t>distributed P2P tuning (at node scal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derived from Markov fields inference technique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  <a:ea typeface="Arial"/>
              </a:rPr>
              <a:t>dynamic optimal power (re)allocation when connections join/leav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Results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ALU simulations:                                                  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Trebuchet MS"/>
                <a:ea typeface="Arial"/>
              </a:rPr>
              <a:t>50% reduction in regeneration equipmen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574560" indent="-16488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  <a:ea typeface="Arial"/>
              </a:rPr>
              <a:t>2 joint ALU-Inria patent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Futura Md BT"/>
              <a:buChar char=" "/>
              <a:tabLst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AF0E-09D2-4A68-8C1D-E70431244616}" type="slidenum">
              <a:rPr b="0" lang="en-GB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| Labo commun| “evaluation” | March 2012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6294600" y="6381720"/>
            <a:ext cx="281448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Two sample results: </a:t>
            </a:r>
            <a:br>
              <a:rPr sz="2400"/>
            </a:br>
            <a:r>
              <a:rPr b="1" lang="fr-FR" sz="2400" spc="-1" strike="noStrike">
                <a:solidFill>
                  <a:srgbClr val="323232"/>
                </a:solidFill>
                <a:latin typeface="Trebuchet MS"/>
              </a:rPr>
              <a:t>Autonomic cellular network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66400" y="1181160"/>
            <a:ext cx="449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Stochastic approach from statistical physic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(Gibbs sampler) to explore the discrete tridimensional space                                  {power;user-association;channel-allocation}      and converge to an optimal configuration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tributed adaptive algorith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flexibilit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daptive optimizati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bandwidth efficienc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ounded domain of explorati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tabilit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unable for a variety of context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3 Patents, 3 joint publication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Espace réservé du numéro de diapositive 2"/>
          <p:cNvSpPr/>
          <p:nvPr/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4F3A-7F48-43DF-927F-B7D3F46C6B18}" type="slidenum">
              <a:rPr b="0" lang="en-GB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| Labo commun| “evaluation” | March 2012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6238800" y="909720"/>
            <a:ext cx="29052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5999040" y="2401920"/>
            <a:ext cx="3144960" cy="238608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e 8"/>
          <p:cNvGrpSpPr/>
          <p:nvPr/>
        </p:nvGrpSpPr>
        <p:grpSpPr>
          <a:xfrm>
            <a:off x="1328760" y="4734000"/>
            <a:ext cx="6419880" cy="1802880"/>
            <a:chOff x="1328760" y="4734000"/>
            <a:chExt cx="6419880" cy="1802880"/>
          </a:xfrm>
        </p:grpSpPr>
        <p:pic>
          <p:nvPicPr>
            <p:cNvPr id="179" name="Picture 5" descr=""/>
            <p:cNvPicPr/>
            <p:nvPr/>
          </p:nvPicPr>
          <p:blipFill>
            <a:blip r:embed="rId3"/>
            <a:stretch/>
          </p:blipFill>
          <p:spPr>
            <a:xfrm>
              <a:off x="1328760" y="4734000"/>
              <a:ext cx="6419880" cy="13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AutoShape 6"/>
            <p:cNvSpPr/>
            <p:nvPr/>
          </p:nvSpPr>
          <p:spPr>
            <a:xfrm rot="16200000">
              <a:off x="3447000" y="4683960"/>
              <a:ext cx="152640" cy="29790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6600 h 2979000"/>
                <a:gd name="textAreaBottom" fmla="*/ 2912400 h 29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72"/>
                    <a:pt x="10800" y="1543"/>
                  </a:cubicBezTo>
                  <a:lnTo>
                    <a:pt x="10800" y="9257"/>
                  </a:lnTo>
                  <a:cubicBezTo>
                    <a:pt x="10800" y="10029"/>
                    <a:pt x="5400" y="10800"/>
                    <a:pt x="0" y="10800"/>
                  </a:cubicBezTo>
                  <a:cubicBezTo>
                    <a:pt x="5400" y="10800"/>
                    <a:pt x="10800" y="11572"/>
                    <a:pt x="10800" y="12343"/>
                  </a:cubicBezTo>
                  <a:lnTo>
                    <a:pt x="10800" y="20057"/>
                  </a:lnTo>
                  <a:cubicBezTo>
                    <a:pt x="10800" y="20829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2931480" y="6307920"/>
              <a:ext cx="1072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70c0"/>
                  </a:solidFill>
                  <a:latin typeface="Trebuchet MS"/>
                </a:rPr>
                <a:t>Selfish part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 rot="16200000">
              <a:off x="6359040" y="5076360"/>
              <a:ext cx="192240" cy="2232360"/>
            </a:xfrm>
            <a:custGeom>
              <a:avLst/>
              <a:gdLst>
                <a:gd name="textAreaLeft" fmla="*/ 122760 w 192240"/>
                <a:gd name="textAreaRight" fmla="*/ 192600 w 192240"/>
                <a:gd name="textAreaTop" fmla="*/ 83520 h 2232360"/>
                <a:gd name="textAreaBottom" fmla="*/ 214884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96"/>
                    <a:pt x="10800" y="2592"/>
                  </a:cubicBezTo>
                  <a:lnTo>
                    <a:pt x="10800" y="8208"/>
                  </a:lnTo>
                  <a:cubicBezTo>
                    <a:pt x="10800" y="9504"/>
                    <a:pt x="5400" y="10800"/>
                    <a:pt x="0" y="10800"/>
                  </a:cubicBezTo>
                  <a:cubicBezTo>
                    <a:pt x="5400" y="10800"/>
                    <a:pt x="10800" y="12096"/>
                    <a:pt x="10800" y="13392"/>
                  </a:cubicBezTo>
                  <a:lnTo>
                    <a:pt x="10800" y="19008"/>
                  </a:lnTo>
                  <a:cubicBezTo>
                    <a:pt x="10800" y="20304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5812560" y="6317640"/>
              <a:ext cx="12855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70c0"/>
                  </a:solidFill>
                  <a:latin typeface="Trebuchet MS"/>
                </a:rPr>
                <a:t>Altruistic part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6"/>
          <p:cNvSpPr/>
          <p:nvPr/>
        </p:nvSpPr>
        <p:spPr>
          <a:xfrm>
            <a:off x="3036960" y="3794040"/>
            <a:ext cx="0" cy="152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4941720" y="3765600"/>
            <a:ext cx="0" cy="152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6853320" y="3794040"/>
            <a:ext cx="0" cy="152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74437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Phase 2: 2012-2015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88" name="Espace réservé du numéro de diapositive 2"/>
          <p:cNvSpPr/>
          <p:nvPr/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B99A-8119-4D0F-B897-C5D9BBE943B1}" type="slidenum">
              <a:rPr b="0" lang="en-GB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| Labo commun| “evaluation” | March 2012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889760" y="3797280"/>
            <a:ext cx="6480" cy="67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5900760" y="3798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1984320" y="3794040"/>
            <a:ext cx="0" cy="66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1654200" y="3384720"/>
            <a:ext cx="6845400" cy="42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8172360" y="3384720"/>
            <a:ext cx="647640" cy="42048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2240" bIns="10224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1336680" y="3376440"/>
            <a:ext cx="647640" cy="42876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6560" bIns="10656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2814480" y="2921040"/>
            <a:ext cx="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6105600" y="2982960"/>
            <a:ext cx="0" cy="40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19360" y="3338640"/>
            <a:ext cx="6737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rebuchet MS"/>
              </a:rPr>
              <a:t>Brainstorming,  Semin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1700280" y="1987560"/>
            <a:ext cx="2057400" cy="94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irector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Trebuchet MS"/>
              </a:rPr>
              <a:t>O. Audouin (ALU)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Trebuchet MS"/>
              </a:rPr>
              <a:t>A. Benveniste (Inria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902040" y="1981080"/>
            <a:ext cx="4541760" cy="1044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2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CIENTIFIC COMMITTE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7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Trebuchet MS"/>
              </a:rPr>
              <a:t>F. Baccelli, W. Dabbous (Inria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7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Trebuchet MS"/>
              </a:rPr>
              <a:t>V. Kumar, L. Thomas, M. Vigoureux (ALU-BL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ZoneTexte 21"/>
          <p:cNvSpPr/>
          <p:nvPr/>
        </p:nvSpPr>
        <p:spPr>
          <a:xfrm>
            <a:off x="91440" y="1996920"/>
            <a:ext cx="107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fi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ateg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ZoneTexte 22"/>
          <p:cNvSpPr/>
          <p:nvPr/>
        </p:nvSpPr>
        <p:spPr>
          <a:xfrm>
            <a:off x="90000" y="4390920"/>
            <a:ext cx="10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ZoneTexte 25"/>
          <p:cNvSpPr/>
          <p:nvPr/>
        </p:nvSpPr>
        <p:spPr>
          <a:xfrm>
            <a:off x="89640" y="328284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ar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Vi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2502000" y="5286240"/>
            <a:ext cx="1069920" cy="4899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Economic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Model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406760" y="5286240"/>
            <a:ext cx="1070280" cy="4899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CCN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CDN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6318360" y="5286240"/>
            <a:ext cx="1069920" cy="4899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Privacy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06" name="Groupe 30"/>
          <p:cNvGrpSpPr/>
          <p:nvPr/>
        </p:nvGrpSpPr>
        <p:grpSpPr>
          <a:xfrm>
            <a:off x="1351080" y="4441680"/>
            <a:ext cx="7143480" cy="489960"/>
            <a:chOff x="1351080" y="4441680"/>
            <a:chExt cx="7143480" cy="489960"/>
          </a:xfrm>
        </p:grpSpPr>
        <p:sp>
          <p:nvSpPr>
            <p:cNvPr id="207" name="Text Box 16"/>
            <p:cNvSpPr/>
            <p:nvPr/>
          </p:nvSpPr>
          <p:spPr>
            <a:xfrm>
              <a:off x="1351080" y="4441680"/>
              <a:ext cx="1268280" cy="48996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eaeaea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oN in Wireless and Wireline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8" name="Text Box 16"/>
            <p:cNvSpPr/>
            <p:nvPr/>
          </p:nvSpPr>
          <p:spPr>
            <a:xfrm>
              <a:off x="3454200" y="4441680"/>
              <a:ext cx="1069920" cy="48996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eaeaea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Green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etworking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9" name="Text Box 16"/>
            <p:cNvSpPr/>
            <p:nvPr/>
          </p:nvSpPr>
          <p:spPr>
            <a:xfrm>
              <a:off x="5365800" y="4441680"/>
              <a:ext cx="1068120" cy="48996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eaeaea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cience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7270920" y="4441680"/>
              <a:ext cx="1223640" cy="48996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eaeaea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(High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Manageability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1" name="Line 5"/>
          <p:cNvSpPr/>
          <p:nvPr/>
        </p:nvSpPr>
        <p:spPr>
          <a:xfrm>
            <a:off x="3989520" y="3795840"/>
            <a:ext cx="0" cy="64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rebuchet MS"/>
              </a:rPr>
              <a:t>Concluding remarks</a:t>
            </a:r>
            <a:endParaRPr b="0" lang="en-US" sz="2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enefits for AL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 algn="r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 algn="r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iving breathing to research thanks to longer time sca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 algn="r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ccessing some breakthrough technologies &amp; master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 algn="r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Jointly developing technologies with externals skil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 algn="r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ructuring effec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 algn="r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rain drai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enefits for Inr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tter understanding strategic industrial iss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scovering new problems for researc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Jointly developing research with externals skil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ructuring effec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355680" y="6526080"/>
            <a:ext cx="31924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0B50-7922-4955-A6C1-9C57D8706F4B}" type="slidenum">
              <a:rPr b="0" lang="en-GB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| Labo commun| “evaluation” | March 2012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ZoneTexte 8"/>
          <p:cNvSpPr/>
          <p:nvPr/>
        </p:nvSpPr>
        <p:spPr>
          <a:xfrm>
            <a:off x="431640" y="5904000"/>
            <a:ext cx="8237520" cy="34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rebuchet MS"/>
              </a:rPr>
              <a:t>At a low cos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8:59:09Z</dcterms:created>
  <dc:creator>richar18</dc:creator>
  <dc:description/>
  <dc:language>en-US</dc:language>
  <cp:lastModifiedBy>benvenis</cp:lastModifiedBy>
  <cp:lastPrinted>2002-04-19T19:23:03Z</cp:lastPrinted>
  <dcterms:modified xsi:type="dcterms:W3CDTF">2012-03-07T16:36:29Z</dcterms:modified>
  <cp:revision>337</cp:revision>
  <dc:subject/>
  <dc:title>Title of Presentation Second Line of Title Subheadings (if needed)</dc:title>
</cp:coreProperties>
</file>