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4F7-5790-46F9-ACFD-085CD844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2CA-7DB2-46A7-B36A-697DD8F6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FC0-349A-4A1C-96AC-0F5191A3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7C7-40E9-41B6-B5C7-CE10B423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72E-B0EB-4F5C-9653-C3340E61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117-8D66-4E2B-B850-E446EAE6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8E0-F386-4BF3-A3F9-08458843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7DB-C321-4F2A-A484-DFEEDC54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40F-2A57-4993-8633-B1639BD9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B6B-F422-4819-95DE-1D344896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843-C2E8-41FC-9FD3-BE531EC9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F99-D5C4-49E5-B32A-4050F54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EE7D5-F42F-4C8D-A294-3F5D5ECF673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AACE4-ECC6-43EC-98A1-8AF706592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4" descr="spatial-resue2.pdf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timal spatial re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ndom is not far from opt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riangle isocèle 4"/>
          <p:cNvSpPr/>
          <p:nvPr/>
        </p:nvSpPr>
        <p:spPr>
          <a:xfrm>
            <a:off x="7848720" y="2133720"/>
            <a:ext cx="609480" cy="4572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riangle isocèle 6"/>
          <p:cNvSpPr/>
          <p:nvPr/>
        </p:nvSpPr>
        <p:spPr>
          <a:xfrm flipV="1">
            <a:off x="8153280" y="213372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riangle isocèle 7"/>
          <p:cNvSpPr/>
          <p:nvPr/>
        </p:nvSpPr>
        <p:spPr>
          <a:xfrm>
            <a:off x="8153280" y="167652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iangle isocèle 8"/>
          <p:cNvSpPr/>
          <p:nvPr/>
        </p:nvSpPr>
        <p:spPr>
          <a:xfrm flipV="1">
            <a:off x="7620120" y="2133720"/>
            <a:ext cx="533160" cy="4572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riangle isocèle 9"/>
          <p:cNvSpPr/>
          <p:nvPr/>
        </p:nvSpPr>
        <p:spPr>
          <a:xfrm>
            <a:off x="7620120" y="1676520"/>
            <a:ext cx="533160" cy="4572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riangle isocèle 10"/>
          <p:cNvSpPr/>
          <p:nvPr/>
        </p:nvSpPr>
        <p:spPr>
          <a:xfrm flipV="1">
            <a:off x="7848720" y="1676520"/>
            <a:ext cx="609480" cy="4572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riangle isocèle 11"/>
          <p:cNvSpPr/>
          <p:nvPr/>
        </p:nvSpPr>
        <p:spPr>
          <a:xfrm flipV="1">
            <a:off x="8381880" y="167652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e 1"/>
          <p:cNvGrpSpPr/>
          <p:nvPr/>
        </p:nvGrpSpPr>
        <p:grpSpPr>
          <a:xfrm>
            <a:off x="6254640" y="2050920"/>
            <a:ext cx="914040" cy="457200"/>
            <a:chOff x="6254640" y="2050920"/>
            <a:chExt cx="914040" cy="457200"/>
          </a:xfrm>
        </p:grpSpPr>
        <p:sp>
          <p:nvSpPr>
            <p:cNvPr id="52" name="Rectangle 12"/>
            <p:cNvSpPr/>
            <p:nvPr/>
          </p:nvSpPr>
          <p:spPr>
            <a:xfrm>
              <a:off x="6254640" y="2050920"/>
              <a:ext cx="304920" cy="228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6559560" y="2050920"/>
              <a:ext cx="304560" cy="228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6559560" y="2279520"/>
              <a:ext cx="304560" cy="228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254640" y="2279520"/>
              <a:ext cx="304920" cy="228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6864120" y="2279520"/>
              <a:ext cx="304560" cy="228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6864120" y="2050920"/>
              <a:ext cx="304560" cy="228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ZoneTexte 18"/>
          <p:cNvSpPr/>
          <p:nvPr/>
        </p:nvSpPr>
        <p:spPr>
          <a:xfrm>
            <a:off x="407160" y="6172200"/>
            <a:ext cx="731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P. Jacquet, S. Malik, «Optimizing Local Capacity of Wireless Ad Hoc Networks », 2011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6:16:01Z</dcterms:created>
  <dc:creator>inria</dc:creator>
  <dc:description/>
  <dc:language>en-US</dc:language>
  <cp:lastModifiedBy>Pascale MINET</cp:lastModifiedBy>
  <dcterms:modified xsi:type="dcterms:W3CDTF">2012-03-23T09:42:00Z</dcterms:modified>
  <cp:revision>4</cp:revision>
  <dc:subject/>
  <dc:title>Random spatial reuse</dc:title>
</cp:coreProperties>
</file>