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1A5EDFF-C2A4-4B63-825A-4865D71782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E67FA6A-D021-418F-BF2B-943CB5AEA2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B5FE-159E-4D24-A467-F0AD6156E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826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D58C-B096-42FB-BDD3-815CCAC40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826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826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779B-67FA-4FF2-ADA1-A54CBD49A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826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826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826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CD79-4488-4D95-A7B0-FC907E3F8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EC3B-89CF-47E1-8FC1-93A3BBACED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85FA-384F-448C-8A1E-B77D36110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CB14-DBD1-4582-A1BF-747B0A87D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4F64-E0A7-4131-9AD5-198207360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BF31-3790-4627-9A15-4C9C00CDC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826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CF0E-D7BF-4F91-B91C-61A8005B7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826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3CF6-4CCB-4EBE-84A9-31F36FDB7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26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125A-062E-49EE-9D07-1952F787F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946F-0C29-482D-85B2-8DB700A09C4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3546000" y="6162840"/>
            <a:ext cx="1953360" cy="642600"/>
            <a:chOff x="3546000" y="6162840"/>
            <a:chExt cx="1953360" cy="642600"/>
          </a:xfrm>
        </p:grpSpPr>
        <p:sp>
          <p:nvSpPr>
            <p:cNvPr id="5" name="Oval 9"/>
            <p:cNvSpPr/>
            <p:nvPr/>
          </p:nvSpPr>
          <p:spPr>
            <a:xfrm>
              <a:off x="3635640" y="6227640"/>
              <a:ext cx="511200" cy="5108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10"/>
            <p:cNvSpPr/>
            <p:nvPr/>
          </p:nvSpPr>
          <p:spPr>
            <a:xfrm>
              <a:off x="4030920" y="625284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ER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1"/>
            <p:cNvSpPr/>
            <p:nvPr/>
          </p:nvSpPr>
          <p:spPr>
            <a:xfrm rot="722400">
              <a:off x="3921840" y="627516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62c0a"/>
                  </a:solidFill>
                  <a:latin typeface="Comic Sans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Text Box 12"/>
            <p:cNvSpPr/>
            <p:nvPr/>
          </p:nvSpPr>
          <p:spPr>
            <a:xfrm>
              <a:off x="3546000" y="6162840"/>
              <a:ext cx="53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808080"/>
                  </a:solidFill>
                  <a:latin typeface="Monotype Corsiva"/>
                  <a:ea typeface="Arial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Picture 14" descr=""/>
          <p:cNvPicPr/>
          <p:nvPr/>
        </p:nvPicPr>
        <p:blipFill>
          <a:blip r:embed="rId2"/>
          <a:stretch/>
        </p:blipFill>
        <p:spPr>
          <a:xfrm>
            <a:off x="468360" y="6111720"/>
            <a:ext cx="167652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8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4DA8-306A-4FE4-A42D-626AE4310FD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AND project-tea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Imag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3337200" cy="2108520"/>
          </a:xfrm>
          <a:prstGeom prst="rect">
            <a:avLst/>
          </a:prstGeom>
          <a:ln w="0">
            <a:noFill/>
          </a:ln>
        </p:spPr>
      </p:pic>
      <p:pic>
        <p:nvPicPr>
          <p:cNvPr id="56" name="Image 2" descr=""/>
          <p:cNvPicPr/>
          <p:nvPr/>
        </p:nvPicPr>
        <p:blipFill>
          <a:blip r:embed="rId2"/>
          <a:stretch/>
        </p:blipFill>
        <p:spPr>
          <a:xfrm>
            <a:off x="5651640" y="-27000"/>
            <a:ext cx="3408120" cy="2174760"/>
          </a:xfrm>
          <a:prstGeom prst="rect">
            <a:avLst/>
          </a:prstGeom>
          <a:ln w="0">
            <a:noFill/>
          </a:ln>
        </p:spPr>
      </p:pic>
      <p:pic>
        <p:nvPicPr>
          <p:cNvPr id="57" name="Image 4" descr=""/>
          <p:cNvPicPr/>
          <p:nvPr/>
        </p:nvPicPr>
        <p:blipFill>
          <a:blip r:embed="rId3"/>
          <a:stretch/>
        </p:blipFill>
        <p:spPr>
          <a:xfrm>
            <a:off x="168120" y="3776760"/>
            <a:ext cx="2316240" cy="2316240"/>
          </a:xfrm>
          <a:prstGeom prst="rect">
            <a:avLst/>
          </a:prstGeom>
          <a:ln w="0">
            <a:noFill/>
          </a:ln>
        </p:spPr>
      </p:pic>
      <p:pic>
        <p:nvPicPr>
          <p:cNvPr id="58" name="Image 6" descr=""/>
          <p:cNvPicPr/>
          <p:nvPr/>
        </p:nvPicPr>
        <p:blipFill>
          <a:blip r:embed="rId4"/>
          <a:stretch/>
        </p:blipFill>
        <p:spPr>
          <a:xfrm>
            <a:off x="5651640" y="4094280"/>
            <a:ext cx="33526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Future Project-Team : W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1052280"/>
            <a:ext cx="84963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ndardization: Emmanuel Bacc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twork coding: Cédric Adj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oha modeling: Paul Muhletha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de coloring &amp; time slot assignment: Pascale M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ruption tolerant networks: Aline Carneiro V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1F7A-6D36-47D7-B340-86CFC6E908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3413-1E34-4150-A4AB-BF5842F759D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Conclus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080" y="831960"/>
            <a:ext cx="879156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HIPERCOM and its evolution WAND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ver the whole spectrum of network protocol /algorithm conce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ing &amp; Optimiz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mulation &amp; Experimen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s methodology has already proved its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dustrial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are all looking forward to further adventures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Future Project-Team: W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000" y="1052280"/>
            <a:ext cx="84963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reless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tonomous /ad hoc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tworking and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sruption 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HIPERCOM follow-up dr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ent  IT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icatio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liferation of heterogeneous communicat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icient communications in wireless ad 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mary focus on the network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ondary focus on MAC &amp; application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791E-04EF-4A59-9C80-A10E662C4DC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5486400" y="2952720"/>
            <a:ext cx="746280" cy="45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4735440" y="2535120"/>
            <a:ext cx="905040" cy="547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6624720" y="2332080"/>
            <a:ext cx="323640" cy="523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4"/>
          <a:stretch/>
        </p:blipFill>
        <p:spPr>
          <a:xfrm>
            <a:off x="6470640" y="1797120"/>
            <a:ext cx="29520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C:\Mes Documents\Mes images\31032011037 petit.JPG"/>
          <p:cNvPicPr/>
          <p:nvPr/>
        </p:nvPicPr>
        <p:blipFill>
          <a:blip r:embed="rId5"/>
          <a:stretch/>
        </p:blipFill>
        <p:spPr>
          <a:xfrm>
            <a:off x="6684840" y="2938320"/>
            <a:ext cx="527040" cy="41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C:\Mes Documents\Mes images\31032011037 petit.JPG"/>
          <p:cNvPicPr/>
          <p:nvPr/>
        </p:nvPicPr>
        <p:blipFill>
          <a:blip r:embed="rId6"/>
          <a:stretch/>
        </p:blipFill>
        <p:spPr>
          <a:xfrm>
            <a:off x="7620120" y="1486080"/>
            <a:ext cx="527040" cy="41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6240600" y="2309760"/>
            <a:ext cx="323640" cy="523800"/>
          </a:xfrm>
          <a:prstGeom prst="rect">
            <a:avLst/>
          </a:prstGeom>
          <a:ln w="0">
            <a:noFill/>
          </a:ln>
        </p:spPr>
      </p:pic>
      <p:pic>
        <p:nvPicPr>
          <p:cNvPr id="69" name="Image 13" descr=""/>
          <p:cNvPicPr/>
          <p:nvPr/>
        </p:nvPicPr>
        <p:blipFill>
          <a:blip r:embed="rId8"/>
          <a:stretch/>
        </p:blipFill>
        <p:spPr>
          <a:xfrm>
            <a:off x="7182000" y="1881360"/>
            <a:ext cx="1962000" cy="1471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9"/>
          <a:stretch/>
        </p:blipFill>
        <p:spPr>
          <a:xfrm>
            <a:off x="5641920" y="2263680"/>
            <a:ext cx="6573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Future Project-Team : W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000" y="1052280"/>
            <a:ext cx="84963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Methodology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tocol/Algorithm Modeling &amp;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tocol/Algorith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tocol Simulation, Implementation &amp; Experi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tocol Standar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Applicat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sh &amp; mobile ad 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ireless senso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ehicular ad 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ruption-toleran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EB62-8FA3-48DB-8ED8-A901BA16222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566120" y="3632040"/>
            <a:ext cx="1542960" cy="1525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2"/>
          <a:stretch/>
        </p:blipFill>
        <p:spPr>
          <a:xfrm>
            <a:off x="7162920" y="5157720"/>
            <a:ext cx="1995480" cy="15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5686560" y="3573360"/>
            <a:ext cx="1850760" cy="158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5580000" y="5157720"/>
            <a:ext cx="19717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Future Project-Team: W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80720" y="1027080"/>
            <a:ext cx="878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Key technical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ynam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vity-based graphs in DT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istributed &amp; adaptive network (re)deploy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ergy efficien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reless medium access: multichannel, cross-lay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outing &amp; data gathering with constrained nodes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etwork coding in mobile networks &amp;wireless sens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7254720" y="6562800"/>
            <a:ext cx="1432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1467-DDED-4138-9CF5-4C340927799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e 7"/>
          <p:cNvGrpSpPr/>
          <p:nvPr/>
        </p:nvGrpSpPr>
        <p:grpSpPr>
          <a:xfrm>
            <a:off x="7872480" y="1806480"/>
            <a:ext cx="1212840" cy="1008000"/>
            <a:chOff x="7872480" y="1806480"/>
            <a:chExt cx="1212840" cy="1008000"/>
          </a:xfrm>
        </p:grpSpPr>
        <p:sp>
          <p:nvSpPr>
            <p:cNvPr id="82" name="Rectangle 5"/>
            <p:cNvSpPr/>
            <p:nvPr/>
          </p:nvSpPr>
          <p:spPr>
            <a:xfrm>
              <a:off x="7872480" y="1806480"/>
              <a:ext cx="1212840" cy="1008000"/>
            </a:xfrm>
            <a:prstGeom prst="rect">
              <a:avLst/>
            </a:prstGeom>
            <a:gradFill rotWithShape="0">
              <a:gsLst>
                <a:gs pos="0">
                  <a:srgbClr val="b5e5e9"/>
                </a:gs>
                <a:gs pos="100000">
                  <a:srgbClr val="cb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8739360" y="190476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Ellipse 19"/>
            <p:cNvSpPr/>
            <p:nvPr/>
          </p:nvSpPr>
          <p:spPr>
            <a:xfrm>
              <a:off x="8354880" y="190476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20"/>
            <p:cNvSpPr/>
            <p:nvPr/>
          </p:nvSpPr>
          <p:spPr>
            <a:xfrm>
              <a:off x="7986600" y="190152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Ellipse 21"/>
            <p:cNvSpPr/>
            <p:nvPr/>
          </p:nvSpPr>
          <p:spPr>
            <a:xfrm>
              <a:off x="8888760" y="2147760"/>
              <a:ext cx="115920" cy="1159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22"/>
            <p:cNvSpPr/>
            <p:nvPr/>
          </p:nvSpPr>
          <p:spPr>
            <a:xfrm>
              <a:off x="8504280" y="2147760"/>
              <a:ext cx="115920" cy="1159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Ellipse 23"/>
            <p:cNvSpPr/>
            <p:nvPr/>
          </p:nvSpPr>
          <p:spPr>
            <a:xfrm>
              <a:off x="8137440" y="2143080"/>
              <a:ext cx="114120" cy="11736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24"/>
            <p:cNvSpPr/>
            <p:nvPr/>
          </p:nvSpPr>
          <p:spPr>
            <a:xfrm>
              <a:off x="8744040" y="2374920"/>
              <a:ext cx="1141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Ellipse 25"/>
            <p:cNvSpPr/>
            <p:nvPr/>
          </p:nvSpPr>
          <p:spPr>
            <a:xfrm>
              <a:off x="8359920" y="237492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26"/>
            <p:cNvSpPr/>
            <p:nvPr/>
          </p:nvSpPr>
          <p:spPr>
            <a:xfrm>
              <a:off x="7991280" y="2371680"/>
              <a:ext cx="115920" cy="10476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Ellipse 27"/>
            <p:cNvSpPr/>
            <p:nvPr/>
          </p:nvSpPr>
          <p:spPr>
            <a:xfrm>
              <a:off x="8869680" y="2627280"/>
              <a:ext cx="115920" cy="10476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28"/>
            <p:cNvSpPr/>
            <p:nvPr/>
          </p:nvSpPr>
          <p:spPr>
            <a:xfrm>
              <a:off x="8487000" y="2627280"/>
              <a:ext cx="115920" cy="10476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Ellipse 29"/>
            <p:cNvSpPr/>
            <p:nvPr/>
          </p:nvSpPr>
          <p:spPr>
            <a:xfrm>
              <a:off x="8118360" y="262260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e 4"/>
          <p:cNvGrpSpPr/>
          <p:nvPr/>
        </p:nvGrpSpPr>
        <p:grpSpPr>
          <a:xfrm>
            <a:off x="7854840" y="743040"/>
            <a:ext cx="1230480" cy="1008000"/>
            <a:chOff x="7854840" y="743040"/>
            <a:chExt cx="1230480" cy="1008000"/>
          </a:xfrm>
        </p:grpSpPr>
        <p:sp>
          <p:nvSpPr>
            <p:cNvPr id="96" name="Rectangle 1"/>
            <p:cNvSpPr/>
            <p:nvPr/>
          </p:nvSpPr>
          <p:spPr>
            <a:xfrm>
              <a:off x="7870680" y="743040"/>
              <a:ext cx="1214640" cy="1008000"/>
            </a:xfrm>
            <a:prstGeom prst="rect">
              <a:avLst/>
            </a:prstGeom>
            <a:gradFill rotWithShape="0">
              <a:gsLst>
                <a:gs pos="0">
                  <a:srgbClr val="b5e5e9"/>
                </a:gs>
                <a:gs pos="100000">
                  <a:srgbClr val="cb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2"/>
            <p:cNvSpPr/>
            <p:nvPr/>
          </p:nvSpPr>
          <p:spPr>
            <a:xfrm>
              <a:off x="7916760" y="1644840"/>
              <a:ext cx="1141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Ellipse 8"/>
            <p:cNvSpPr/>
            <p:nvPr/>
          </p:nvSpPr>
          <p:spPr>
            <a:xfrm>
              <a:off x="8030880" y="162900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9"/>
            <p:cNvSpPr/>
            <p:nvPr/>
          </p:nvSpPr>
          <p:spPr>
            <a:xfrm>
              <a:off x="7973640" y="151776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Ellipse 10"/>
            <p:cNvSpPr/>
            <p:nvPr/>
          </p:nvSpPr>
          <p:spPr>
            <a:xfrm>
              <a:off x="8135640" y="155448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1"/>
            <p:cNvSpPr/>
            <p:nvPr/>
          </p:nvSpPr>
          <p:spPr>
            <a:xfrm>
              <a:off x="7857720" y="146844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Ellipse 12"/>
            <p:cNvSpPr/>
            <p:nvPr/>
          </p:nvSpPr>
          <p:spPr>
            <a:xfrm>
              <a:off x="7854840" y="1344600"/>
              <a:ext cx="115920" cy="1159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Ellipse 13"/>
            <p:cNvSpPr/>
            <p:nvPr/>
          </p:nvSpPr>
          <p:spPr>
            <a:xfrm>
              <a:off x="7973640" y="139860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14"/>
            <p:cNvSpPr/>
            <p:nvPr/>
          </p:nvSpPr>
          <p:spPr>
            <a:xfrm>
              <a:off x="8070480" y="150516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Ellipse 15"/>
            <p:cNvSpPr/>
            <p:nvPr/>
          </p:nvSpPr>
          <p:spPr>
            <a:xfrm>
              <a:off x="7889760" y="1549440"/>
              <a:ext cx="115920" cy="10620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Ellipse 30"/>
            <p:cNvSpPr/>
            <p:nvPr/>
          </p:nvSpPr>
          <p:spPr>
            <a:xfrm>
              <a:off x="8089560" y="1622520"/>
              <a:ext cx="115920" cy="11736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Ellipse 31"/>
            <p:cNvSpPr/>
            <p:nvPr/>
          </p:nvSpPr>
          <p:spPr>
            <a:xfrm>
              <a:off x="7961040" y="1285920"/>
              <a:ext cx="115920" cy="1159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Ellipse 33"/>
            <p:cNvSpPr/>
            <p:nvPr/>
          </p:nvSpPr>
          <p:spPr>
            <a:xfrm>
              <a:off x="8070480" y="1344600"/>
              <a:ext cx="115920" cy="1159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e 16"/>
          <p:cNvGrpSpPr/>
          <p:nvPr/>
        </p:nvGrpSpPr>
        <p:grpSpPr>
          <a:xfrm>
            <a:off x="7885080" y="2859120"/>
            <a:ext cx="1212840" cy="1109520"/>
            <a:chOff x="7885080" y="2859120"/>
            <a:chExt cx="1212840" cy="1109520"/>
          </a:xfrm>
        </p:grpSpPr>
        <p:sp>
          <p:nvSpPr>
            <p:cNvPr id="110" name="Rectangle 6"/>
            <p:cNvSpPr/>
            <p:nvPr/>
          </p:nvSpPr>
          <p:spPr>
            <a:xfrm>
              <a:off x="7885080" y="2859120"/>
              <a:ext cx="1212840" cy="1109520"/>
            </a:xfrm>
            <a:prstGeom prst="rect">
              <a:avLst/>
            </a:prstGeom>
            <a:gradFill rotWithShape="0">
              <a:gsLst>
                <a:gs pos="0">
                  <a:srgbClr val="b5e5e9"/>
                </a:gs>
                <a:gs pos="100000">
                  <a:srgbClr val="cb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Ellipse 32"/>
            <p:cNvSpPr/>
            <p:nvPr/>
          </p:nvSpPr>
          <p:spPr>
            <a:xfrm>
              <a:off x="8262720" y="333828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Ellipse 34"/>
            <p:cNvSpPr/>
            <p:nvPr/>
          </p:nvSpPr>
          <p:spPr>
            <a:xfrm>
              <a:off x="8702640" y="350028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Ellipse 35"/>
            <p:cNvSpPr/>
            <p:nvPr/>
          </p:nvSpPr>
          <p:spPr>
            <a:xfrm>
              <a:off x="8601120" y="360684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Ellipse 36"/>
            <p:cNvSpPr/>
            <p:nvPr/>
          </p:nvSpPr>
          <p:spPr>
            <a:xfrm>
              <a:off x="8952120" y="337176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Ellipse 37"/>
            <p:cNvSpPr/>
            <p:nvPr/>
          </p:nvSpPr>
          <p:spPr>
            <a:xfrm>
              <a:off x="8577360" y="317160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Ellipse 38"/>
            <p:cNvSpPr/>
            <p:nvPr/>
          </p:nvSpPr>
          <p:spPr>
            <a:xfrm>
              <a:off x="8366040" y="317160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Ellipse 39"/>
            <p:cNvSpPr/>
            <p:nvPr/>
          </p:nvSpPr>
          <p:spPr>
            <a:xfrm>
              <a:off x="8693280" y="334656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Ellipse 40"/>
            <p:cNvSpPr/>
            <p:nvPr/>
          </p:nvSpPr>
          <p:spPr>
            <a:xfrm>
              <a:off x="8299440" y="350676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Ellipse 41"/>
            <p:cNvSpPr/>
            <p:nvPr/>
          </p:nvSpPr>
          <p:spPr>
            <a:xfrm>
              <a:off x="8434440" y="3632040"/>
              <a:ext cx="1141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Ellipse 42"/>
            <p:cNvSpPr/>
            <p:nvPr/>
          </p:nvSpPr>
          <p:spPr>
            <a:xfrm>
              <a:off x="8486640" y="3004920"/>
              <a:ext cx="115920" cy="1267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Ellipse 43"/>
            <p:cNvSpPr/>
            <p:nvPr/>
          </p:nvSpPr>
          <p:spPr>
            <a:xfrm>
              <a:off x="8208720" y="3702240"/>
              <a:ext cx="1141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Ellipse 44"/>
            <p:cNvSpPr/>
            <p:nvPr/>
          </p:nvSpPr>
          <p:spPr>
            <a:xfrm>
              <a:off x="8165880" y="3127320"/>
              <a:ext cx="115920" cy="12996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Ellipse 3"/>
            <p:cNvSpPr/>
            <p:nvPr/>
          </p:nvSpPr>
          <p:spPr>
            <a:xfrm>
              <a:off x="8378640" y="3282840"/>
              <a:ext cx="314280" cy="331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Ellipse 46"/>
            <p:cNvSpPr/>
            <p:nvPr/>
          </p:nvSpPr>
          <p:spPr>
            <a:xfrm>
              <a:off x="8783640" y="3108240"/>
              <a:ext cx="1141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Ellipse 47"/>
            <p:cNvSpPr/>
            <p:nvPr/>
          </p:nvSpPr>
          <p:spPr>
            <a:xfrm>
              <a:off x="8049960" y="346068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Ellipse 48"/>
            <p:cNvSpPr/>
            <p:nvPr/>
          </p:nvSpPr>
          <p:spPr>
            <a:xfrm>
              <a:off x="8478720" y="3816360"/>
              <a:ext cx="1141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Ellipse 49"/>
            <p:cNvSpPr/>
            <p:nvPr/>
          </p:nvSpPr>
          <p:spPr>
            <a:xfrm>
              <a:off x="8809200" y="3720960"/>
              <a:ext cx="115920" cy="128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"/>
          <p:cNvGrpSpPr/>
          <p:nvPr/>
        </p:nvGrpSpPr>
        <p:grpSpPr>
          <a:xfrm>
            <a:off x="1697040" y="5127480"/>
            <a:ext cx="571320" cy="749160"/>
            <a:chOff x="1697040" y="5127480"/>
            <a:chExt cx="571320" cy="749160"/>
          </a:xfrm>
        </p:grpSpPr>
        <p:grpSp>
          <p:nvGrpSpPr>
            <p:cNvPr id="129" name="Group 2"/>
            <p:cNvGrpSpPr/>
            <p:nvPr/>
          </p:nvGrpSpPr>
          <p:grpSpPr>
            <a:xfrm>
              <a:off x="1897920" y="5207040"/>
              <a:ext cx="85320" cy="313560"/>
              <a:chOff x="1897920" y="5207040"/>
              <a:chExt cx="85320" cy="313560"/>
            </a:xfrm>
          </p:grpSpPr>
          <p:grpSp>
            <p:nvGrpSpPr>
              <p:cNvPr id="130" name="Group 3"/>
              <p:cNvGrpSpPr/>
              <p:nvPr/>
            </p:nvGrpSpPr>
            <p:grpSpPr>
              <a:xfrm>
                <a:off x="1938240" y="5207040"/>
                <a:ext cx="38880" cy="187200"/>
                <a:chOff x="1938240" y="5207040"/>
                <a:chExt cx="38880" cy="187200"/>
              </a:xfrm>
            </p:grpSpPr>
            <p:sp>
              <p:nvSpPr>
                <p:cNvPr id="131" name="Freeform 4"/>
                <p:cNvSpPr/>
                <p:nvPr/>
              </p:nvSpPr>
              <p:spPr>
                <a:xfrm>
                  <a:off x="1938240" y="5207040"/>
                  <a:ext cx="38880" cy="187200"/>
                </a:xfrm>
                <a:custGeom>
                  <a:avLst/>
                  <a:gdLst/>
                  <a:ahLst/>
                  <a:rect l="l" t="t" r="r" b="b"/>
                  <a:pathLst>
                    <a:path w="188" h="1629">
                      <a:moveTo>
                        <a:pt x="4" y="1629"/>
                      </a:moveTo>
                      <a:lnTo>
                        <a:pt x="1" y="1580"/>
                      </a:lnTo>
                      <a:lnTo>
                        <a:pt x="0" y="1532"/>
                      </a:lnTo>
                      <a:lnTo>
                        <a:pt x="1" y="1474"/>
                      </a:lnTo>
                      <a:lnTo>
                        <a:pt x="4" y="1411"/>
                      </a:lnTo>
                      <a:lnTo>
                        <a:pt x="8" y="1353"/>
                      </a:lnTo>
                      <a:lnTo>
                        <a:pt x="17" y="1309"/>
                      </a:lnTo>
                      <a:lnTo>
                        <a:pt x="30" y="1269"/>
                      </a:lnTo>
                      <a:lnTo>
                        <a:pt x="44" y="1232"/>
                      </a:lnTo>
                      <a:lnTo>
                        <a:pt x="70" y="66"/>
                      </a:lnTo>
                      <a:lnTo>
                        <a:pt x="73" y="34"/>
                      </a:lnTo>
                      <a:lnTo>
                        <a:pt x="81" y="10"/>
                      </a:lnTo>
                      <a:lnTo>
                        <a:pt x="95" y="0"/>
                      </a:lnTo>
                      <a:lnTo>
                        <a:pt x="119" y="1"/>
                      </a:lnTo>
                      <a:lnTo>
                        <a:pt x="133" y="12"/>
                      </a:lnTo>
                      <a:lnTo>
                        <a:pt x="142" y="38"/>
                      </a:lnTo>
                      <a:lnTo>
                        <a:pt x="143" y="70"/>
                      </a:lnTo>
                      <a:lnTo>
                        <a:pt x="119" y="1236"/>
                      </a:lnTo>
                      <a:lnTo>
                        <a:pt x="134" y="1254"/>
                      </a:lnTo>
                      <a:lnTo>
                        <a:pt x="150" y="1289"/>
                      </a:lnTo>
                      <a:lnTo>
                        <a:pt x="162" y="1334"/>
                      </a:lnTo>
                      <a:lnTo>
                        <a:pt x="169" y="1382"/>
                      </a:lnTo>
                      <a:lnTo>
                        <a:pt x="177" y="1431"/>
                      </a:lnTo>
                      <a:lnTo>
                        <a:pt x="180" y="1488"/>
                      </a:lnTo>
                      <a:lnTo>
                        <a:pt x="187" y="1572"/>
                      </a:lnTo>
                      <a:lnTo>
                        <a:pt x="188" y="1625"/>
                      </a:lnTo>
                      <a:lnTo>
                        <a:pt x="4" y="162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5"/>
                <p:cNvSpPr/>
                <p:nvPr/>
              </p:nvSpPr>
              <p:spPr>
                <a:xfrm flipH="1">
                  <a:off x="1952280" y="5216040"/>
                  <a:ext cx="6120" cy="150480"/>
                </a:xfrm>
                <a:prstGeom prst="line">
                  <a:avLst/>
                </a:prstGeom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Freeform 6"/>
              <p:cNvSpPr/>
              <p:nvPr/>
            </p:nvSpPr>
            <p:spPr>
              <a:xfrm rot="16200000">
                <a:off x="1872360" y="5409720"/>
                <a:ext cx="136080" cy="85320"/>
              </a:xfrm>
              <a:custGeom>
                <a:avLst/>
                <a:gdLst/>
                <a:ahLst/>
                <a:rect l="l" t="t" r="r" b="b"/>
                <a:pathLst>
                  <a:path w="497" h="807">
                    <a:moveTo>
                      <a:pt x="130" y="0"/>
                    </a:moveTo>
                    <a:lnTo>
                      <a:pt x="99" y="5"/>
                    </a:lnTo>
                    <a:lnTo>
                      <a:pt x="76" y="13"/>
                    </a:lnTo>
                    <a:lnTo>
                      <a:pt x="56" y="32"/>
                    </a:lnTo>
                    <a:lnTo>
                      <a:pt x="45" y="49"/>
                    </a:lnTo>
                    <a:lnTo>
                      <a:pt x="23" y="82"/>
                    </a:lnTo>
                    <a:lnTo>
                      <a:pt x="13" y="110"/>
                    </a:lnTo>
                    <a:lnTo>
                      <a:pt x="10" y="138"/>
                    </a:lnTo>
                    <a:lnTo>
                      <a:pt x="6" y="166"/>
                    </a:lnTo>
                    <a:lnTo>
                      <a:pt x="3" y="354"/>
                    </a:lnTo>
                    <a:lnTo>
                      <a:pt x="1" y="495"/>
                    </a:lnTo>
                    <a:lnTo>
                      <a:pt x="0" y="583"/>
                    </a:lnTo>
                    <a:lnTo>
                      <a:pt x="3" y="632"/>
                    </a:lnTo>
                    <a:lnTo>
                      <a:pt x="11" y="670"/>
                    </a:lnTo>
                    <a:lnTo>
                      <a:pt x="23" y="698"/>
                    </a:lnTo>
                    <a:lnTo>
                      <a:pt x="39" y="729"/>
                    </a:lnTo>
                    <a:lnTo>
                      <a:pt x="55" y="747"/>
                    </a:lnTo>
                    <a:lnTo>
                      <a:pt x="69" y="757"/>
                    </a:lnTo>
                    <a:lnTo>
                      <a:pt x="93" y="769"/>
                    </a:lnTo>
                    <a:lnTo>
                      <a:pt x="113" y="775"/>
                    </a:lnTo>
                    <a:lnTo>
                      <a:pt x="353" y="807"/>
                    </a:lnTo>
                    <a:lnTo>
                      <a:pt x="386" y="807"/>
                    </a:lnTo>
                    <a:lnTo>
                      <a:pt x="411" y="800"/>
                    </a:lnTo>
                    <a:lnTo>
                      <a:pt x="432" y="789"/>
                    </a:lnTo>
                    <a:lnTo>
                      <a:pt x="451" y="762"/>
                    </a:lnTo>
                    <a:lnTo>
                      <a:pt x="465" y="727"/>
                    </a:lnTo>
                    <a:lnTo>
                      <a:pt x="471" y="692"/>
                    </a:lnTo>
                    <a:lnTo>
                      <a:pt x="474" y="661"/>
                    </a:lnTo>
                    <a:lnTo>
                      <a:pt x="476" y="620"/>
                    </a:lnTo>
                    <a:lnTo>
                      <a:pt x="478" y="557"/>
                    </a:lnTo>
                    <a:lnTo>
                      <a:pt x="487" y="333"/>
                    </a:lnTo>
                    <a:lnTo>
                      <a:pt x="497" y="212"/>
                    </a:lnTo>
                    <a:lnTo>
                      <a:pt x="497" y="147"/>
                    </a:lnTo>
                    <a:lnTo>
                      <a:pt x="490" y="121"/>
                    </a:lnTo>
                    <a:lnTo>
                      <a:pt x="474" y="86"/>
                    </a:lnTo>
                    <a:lnTo>
                      <a:pt x="456" y="69"/>
                    </a:lnTo>
                    <a:lnTo>
                      <a:pt x="437" y="53"/>
                    </a:lnTo>
                    <a:lnTo>
                      <a:pt x="404" y="49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606060"/>
              </a:solidFill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rot="16200000">
                <a:off x="1865880" y="5415840"/>
                <a:ext cx="132840" cy="69120"/>
              </a:xfrm>
              <a:custGeom>
                <a:avLst/>
                <a:gdLst/>
                <a:ahLst/>
                <a:rect l="l" t="t" r="r" b="b"/>
                <a:pathLst>
                  <a:path w="485" h="651">
                    <a:moveTo>
                      <a:pt x="0" y="99"/>
                    </a:moveTo>
                    <a:lnTo>
                      <a:pt x="461" y="651"/>
                    </a:lnTo>
                    <a:lnTo>
                      <a:pt x="482" y="208"/>
                    </a:lnTo>
                    <a:lnTo>
                      <a:pt x="485" y="166"/>
                    </a:lnTo>
                    <a:lnTo>
                      <a:pt x="481" y="141"/>
                    </a:lnTo>
                    <a:lnTo>
                      <a:pt x="475" y="121"/>
                    </a:lnTo>
                    <a:lnTo>
                      <a:pt x="468" y="103"/>
                    </a:lnTo>
                    <a:lnTo>
                      <a:pt x="456" y="88"/>
                    </a:lnTo>
                    <a:lnTo>
                      <a:pt x="441" y="70"/>
                    </a:lnTo>
                    <a:lnTo>
                      <a:pt x="419" y="56"/>
                    </a:lnTo>
                    <a:lnTo>
                      <a:pt x="387" y="50"/>
                    </a:lnTo>
                    <a:lnTo>
                      <a:pt x="357" y="42"/>
                    </a:lnTo>
                    <a:lnTo>
                      <a:pt x="153" y="4"/>
                    </a:lnTo>
                    <a:lnTo>
                      <a:pt x="113" y="0"/>
                    </a:lnTo>
                    <a:lnTo>
                      <a:pt x="80" y="6"/>
                    </a:lnTo>
                    <a:lnTo>
                      <a:pt x="61" y="14"/>
                    </a:lnTo>
                    <a:lnTo>
                      <a:pt x="45" y="26"/>
                    </a:lnTo>
                    <a:lnTo>
                      <a:pt x="32" y="42"/>
                    </a:lnTo>
                    <a:lnTo>
                      <a:pt x="21" y="56"/>
                    </a:lnTo>
                    <a:lnTo>
                      <a:pt x="9" y="7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Picture 8" descr=""/>
            <p:cNvPicPr/>
            <p:nvPr/>
          </p:nvPicPr>
          <p:blipFill>
            <a:blip r:embed="rId1"/>
            <a:stretch/>
          </p:blipFill>
          <p:spPr>
            <a:xfrm>
              <a:off x="1697040" y="5364360"/>
              <a:ext cx="571320" cy="51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Group 9"/>
            <p:cNvGrpSpPr/>
            <p:nvPr/>
          </p:nvGrpSpPr>
          <p:grpSpPr>
            <a:xfrm>
              <a:off x="1697040" y="5127480"/>
              <a:ext cx="270720" cy="160920"/>
              <a:chOff x="1697040" y="5127480"/>
              <a:chExt cx="270720" cy="160920"/>
            </a:xfrm>
          </p:grpSpPr>
          <p:grpSp>
            <p:nvGrpSpPr>
              <p:cNvPr id="137" name="Group 10"/>
              <p:cNvGrpSpPr/>
              <p:nvPr/>
            </p:nvGrpSpPr>
            <p:grpSpPr>
              <a:xfrm>
                <a:off x="1697040" y="5127480"/>
                <a:ext cx="176760" cy="160920"/>
                <a:chOff x="1697040" y="5127480"/>
                <a:chExt cx="176760" cy="160920"/>
              </a:xfrm>
            </p:grpSpPr>
            <p:sp>
              <p:nvSpPr>
                <p:cNvPr id="138" name="AutoShape 11"/>
                <p:cNvSpPr/>
                <p:nvPr/>
              </p:nvSpPr>
              <p:spPr>
                <a:xfrm flipH="1">
                  <a:off x="1697040" y="5127480"/>
                  <a:ext cx="145440" cy="160920"/>
                </a:xfrm>
                <a:custGeom>
                  <a:avLst/>
                  <a:gdLst>
                    <a:gd name="textAreaLeft" fmla="*/ 73080 w 145440"/>
                    <a:gd name="textAreaRight" fmla="*/ 146160 w 145440"/>
                    <a:gd name="textAreaTop" fmla="*/ 1440 h 160920"/>
                    <a:gd name="textAreaBottom" fmla="*/ 157680 h 1609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876" y="201"/>
                      </a:moveTo>
                      <a:cubicBezTo>
                        <a:pt x="17944" y="1194"/>
                        <a:pt x="21600" y="5636"/>
                        <a:pt x="21600" y="10800"/>
                      </a:cubicBezTo>
                      <a:cubicBezTo>
                        <a:pt x="21600" y="15669"/>
                        <a:pt x="18341" y="19936"/>
                        <a:pt x="13644" y="21218"/>
                      </a:cubicBezTo>
                      <a:lnTo>
                        <a:pt x="10800" y="10800"/>
                      </a:lnTo>
                      <a:lnTo>
                        <a:pt x="12876" y="201"/>
                      </a:lnTo>
                      <a:close/>
                    </a:path>
                    <a:path fill="none" w="21600" h="21600">
                      <a:moveTo>
                        <a:pt x="12876" y="201"/>
                      </a:moveTo>
                      <a:cubicBezTo>
                        <a:pt x="17944" y="1194"/>
                        <a:pt x="21600" y="5636"/>
                        <a:pt x="21600" y="10800"/>
                      </a:cubicBezTo>
                      <a:cubicBezTo>
                        <a:pt x="21600" y="15669"/>
                        <a:pt x="18341" y="19936"/>
                        <a:pt x="13644" y="21218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AutoShape 12"/>
                <p:cNvSpPr/>
                <p:nvPr/>
              </p:nvSpPr>
              <p:spPr>
                <a:xfrm flipH="1">
                  <a:off x="1727280" y="5137560"/>
                  <a:ext cx="126000" cy="138600"/>
                </a:xfrm>
                <a:custGeom>
                  <a:avLst/>
                  <a:gdLst>
                    <a:gd name="textAreaLeft" fmla="*/ 63000 w 126000"/>
                    <a:gd name="textAreaRight" fmla="*/ 126360 w 126000"/>
                    <a:gd name="textAreaTop" fmla="*/ 1440 h 138600"/>
                    <a:gd name="textAreaBottom" fmla="*/ 136080 h 1386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885" y="203"/>
                      </a:moveTo>
                      <a:cubicBezTo>
                        <a:pt x="17949" y="1200"/>
                        <a:pt x="21600" y="5639"/>
                        <a:pt x="21600" y="10800"/>
                      </a:cubicBezTo>
                      <a:cubicBezTo>
                        <a:pt x="21600" y="15682"/>
                        <a:pt x="18323" y="19958"/>
                        <a:pt x="13609" y="21228"/>
                      </a:cubicBezTo>
                      <a:lnTo>
                        <a:pt x="10800" y="10800"/>
                      </a:lnTo>
                      <a:lnTo>
                        <a:pt x="12885" y="203"/>
                      </a:lnTo>
                      <a:close/>
                    </a:path>
                    <a:path fill="none" w="21600" h="21600">
                      <a:moveTo>
                        <a:pt x="12885" y="203"/>
                      </a:moveTo>
                      <a:cubicBezTo>
                        <a:pt x="17949" y="1200"/>
                        <a:pt x="21600" y="5639"/>
                        <a:pt x="21600" y="10800"/>
                      </a:cubicBezTo>
                      <a:cubicBezTo>
                        <a:pt x="21600" y="15682"/>
                        <a:pt x="18323" y="19958"/>
                        <a:pt x="13609" y="21228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utoShape 13"/>
                <p:cNvSpPr/>
                <p:nvPr/>
              </p:nvSpPr>
              <p:spPr>
                <a:xfrm flipH="1">
                  <a:off x="1757160" y="5149800"/>
                  <a:ext cx="116280" cy="115920"/>
                </a:xfrm>
                <a:custGeom>
                  <a:avLst/>
                  <a:gdLst>
                    <a:gd name="textAreaLeft" fmla="*/ 57240 w 116280"/>
                    <a:gd name="textAreaRight" fmla="*/ 116280 w 116280"/>
                    <a:gd name="textAreaTop" fmla="*/ 720 h 115920"/>
                    <a:gd name="textAreaBottom" fmla="*/ 113400 h 1159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940" y="214"/>
                      </a:moveTo>
                      <a:cubicBezTo>
                        <a:pt x="17978" y="1233"/>
                        <a:pt x="21600" y="5660"/>
                        <a:pt x="21600" y="10800"/>
                      </a:cubicBezTo>
                      <a:cubicBezTo>
                        <a:pt x="21600" y="15665"/>
                        <a:pt x="18346" y="19930"/>
                        <a:pt x="13654" y="21216"/>
                      </a:cubicBezTo>
                      <a:lnTo>
                        <a:pt x="10800" y="10800"/>
                      </a:lnTo>
                      <a:lnTo>
                        <a:pt x="12940" y="214"/>
                      </a:lnTo>
                      <a:close/>
                    </a:path>
                    <a:path fill="none" w="21600" h="21600">
                      <a:moveTo>
                        <a:pt x="12940" y="214"/>
                      </a:moveTo>
                      <a:cubicBezTo>
                        <a:pt x="17978" y="1233"/>
                        <a:pt x="21600" y="5660"/>
                        <a:pt x="21600" y="10800"/>
                      </a:cubicBezTo>
                      <a:cubicBezTo>
                        <a:pt x="21600" y="15665"/>
                        <a:pt x="18346" y="19930"/>
                        <a:pt x="13654" y="21216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14"/>
              <p:cNvGrpSpPr/>
              <p:nvPr/>
            </p:nvGrpSpPr>
            <p:grpSpPr>
              <a:xfrm>
                <a:off x="1783440" y="5157720"/>
                <a:ext cx="149400" cy="105480"/>
                <a:chOff x="1783440" y="5157720"/>
                <a:chExt cx="149400" cy="105480"/>
              </a:xfrm>
            </p:grpSpPr>
            <p:sp>
              <p:nvSpPr>
                <p:cNvPr id="142" name="AutoShape 15"/>
                <p:cNvSpPr/>
                <p:nvPr/>
              </p:nvSpPr>
              <p:spPr>
                <a:xfrm flipH="1">
                  <a:off x="1783080" y="5157720"/>
                  <a:ext cx="122760" cy="105480"/>
                </a:xfrm>
                <a:custGeom>
                  <a:avLst/>
                  <a:gdLst>
                    <a:gd name="textAreaLeft" fmla="*/ 61560 w 122760"/>
                    <a:gd name="textAreaRight" fmla="*/ 123120 w 122760"/>
                    <a:gd name="textAreaTop" fmla="*/ 720 h 105480"/>
                    <a:gd name="textAreaBottom" fmla="*/ 104040 h 10548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844" y="195"/>
                      </a:moveTo>
                      <a:cubicBezTo>
                        <a:pt x="17927" y="1175"/>
                        <a:pt x="21600" y="5623"/>
                        <a:pt x="21600" y="10800"/>
                      </a:cubicBezTo>
                      <a:cubicBezTo>
                        <a:pt x="21600" y="15695"/>
                        <a:pt x="18307" y="19978"/>
                        <a:pt x="13577" y="21236"/>
                      </a:cubicBezTo>
                      <a:lnTo>
                        <a:pt x="10800" y="10800"/>
                      </a:lnTo>
                      <a:lnTo>
                        <a:pt x="12844" y="195"/>
                      </a:lnTo>
                      <a:close/>
                    </a:path>
                    <a:path fill="none" w="21600" h="21600">
                      <a:moveTo>
                        <a:pt x="12844" y="195"/>
                      </a:moveTo>
                      <a:cubicBezTo>
                        <a:pt x="17927" y="1175"/>
                        <a:pt x="21600" y="5623"/>
                        <a:pt x="21600" y="10800"/>
                      </a:cubicBezTo>
                      <a:cubicBezTo>
                        <a:pt x="21600" y="15695"/>
                        <a:pt x="18307" y="19978"/>
                        <a:pt x="13577" y="21236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6"/>
                <p:cNvSpPr/>
                <p:nvPr/>
              </p:nvSpPr>
              <p:spPr>
                <a:xfrm flipH="1">
                  <a:off x="1809000" y="5164560"/>
                  <a:ext cx="105480" cy="90720"/>
                </a:xfrm>
                <a:custGeom>
                  <a:avLst/>
                  <a:gdLst>
                    <a:gd name="textAreaLeft" fmla="*/ 52200 w 105480"/>
                    <a:gd name="textAreaRight" fmla="*/ 105840 w 105480"/>
                    <a:gd name="textAreaTop" fmla="*/ 720 h 90720"/>
                    <a:gd name="textAreaBottom" fmla="*/ 89280 h 907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780" y="183"/>
                      </a:moveTo>
                      <a:cubicBezTo>
                        <a:pt x="17893" y="1137"/>
                        <a:pt x="21600" y="5599"/>
                        <a:pt x="21600" y="10800"/>
                      </a:cubicBezTo>
                      <a:cubicBezTo>
                        <a:pt x="21600" y="15744"/>
                        <a:pt x="18242" y="20057"/>
                        <a:pt x="13449" y="21270"/>
                      </a:cubicBezTo>
                      <a:lnTo>
                        <a:pt x="10800" y="10800"/>
                      </a:lnTo>
                      <a:lnTo>
                        <a:pt x="12780" y="183"/>
                      </a:lnTo>
                      <a:close/>
                    </a:path>
                    <a:path fill="none" w="21600" h="21600">
                      <a:moveTo>
                        <a:pt x="12780" y="183"/>
                      </a:moveTo>
                      <a:cubicBezTo>
                        <a:pt x="17893" y="1137"/>
                        <a:pt x="21600" y="5599"/>
                        <a:pt x="21600" y="10800"/>
                      </a:cubicBezTo>
                      <a:cubicBezTo>
                        <a:pt x="21600" y="15744"/>
                        <a:pt x="18242" y="20057"/>
                        <a:pt x="13449" y="21270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utoShape 17"/>
                <p:cNvSpPr/>
                <p:nvPr/>
              </p:nvSpPr>
              <p:spPr>
                <a:xfrm flipH="1">
                  <a:off x="1834200" y="5173200"/>
                  <a:ext cx="98280" cy="75960"/>
                </a:xfrm>
                <a:custGeom>
                  <a:avLst/>
                  <a:gdLst>
                    <a:gd name="textAreaLeft" fmla="*/ 48600 w 98280"/>
                    <a:gd name="textAreaRight" fmla="*/ 98640 w 98280"/>
                    <a:gd name="textAreaTop" fmla="*/ 720 h 75960"/>
                    <a:gd name="textAreaBottom" fmla="*/ 74520 h 75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907" y="207"/>
                      </a:moveTo>
                      <a:cubicBezTo>
                        <a:pt x="17960" y="1213"/>
                        <a:pt x="21600" y="5647"/>
                        <a:pt x="21600" y="10800"/>
                      </a:cubicBezTo>
                      <a:cubicBezTo>
                        <a:pt x="21600" y="15668"/>
                        <a:pt x="18343" y="19934"/>
                        <a:pt x="13647" y="21217"/>
                      </a:cubicBezTo>
                      <a:lnTo>
                        <a:pt x="10800" y="10800"/>
                      </a:lnTo>
                      <a:lnTo>
                        <a:pt x="12907" y="207"/>
                      </a:lnTo>
                      <a:close/>
                    </a:path>
                    <a:path fill="none" w="21600" h="21600">
                      <a:moveTo>
                        <a:pt x="12907" y="207"/>
                      </a:moveTo>
                      <a:cubicBezTo>
                        <a:pt x="17960" y="1213"/>
                        <a:pt x="21600" y="5647"/>
                        <a:pt x="21600" y="10800"/>
                      </a:cubicBezTo>
                      <a:cubicBezTo>
                        <a:pt x="21600" y="15668"/>
                        <a:pt x="18343" y="19934"/>
                        <a:pt x="13647" y="21217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AutoShape 18"/>
              <p:cNvSpPr/>
              <p:nvPr/>
            </p:nvSpPr>
            <p:spPr>
              <a:xfrm flipH="1">
                <a:off x="1857600" y="5179320"/>
                <a:ext cx="88560" cy="66240"/>
              </a:xfrm>
              <a:custGeom>
                <a:avLst/>
                <a:gdLst>
                  <a:gd name="textAreaLeft" fmla="*/ 44280 w 88560"/>
                  <a:gd name="textAreaRight" fmla="*/ 89280 w 88560"/>
                  <a:gd name="textAreaTop" fmla="*/ 72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939" y="213"/>
                    </a:moveTo>
                    <a:cubicBezTo>
                      <a:pt x="17977" y="1231"/>
                      <a:pt x="21600" y="5659"/>
                      <a:pt x="21600" y="10800"/>
                    </a:cubicBezTo>
                    <a:cubicBezTo>
                      <a:pt x="21600" y="15684"/>
                      <a:pt x="18321" y="19960"/>
                      <a:pt x="13605" y="21229"/>
                    </a:cubicBezTo>
                    <a:lnTo>
                      <a:pt x="10800" y="10800"/>
                    </a:lnTo>
                    <a:lnTo>
                      <a:pt x="12939" y="213"/>
                    </a:lnTo>
                    <a:close/>
                  </a:path>
                  <a:path fill="none" w="21600" h="21600">
                    <a:moveTo>
                      <a:pt x="12939" y="213"/>
                    </a:moveTo>
                    <a:cubicBezTo>
                      <a:pt x="17977" y="1231"/>
                      <a:pt x="21600" y="5659"/>
                      <a:pt x="21600" y="10800"/>
                    </a:cubicBezTo>
                    <a:cubicBezTo>
                      <a:pt x="21600" y="15684"/>
                      <a:pt x="18321" y="19960"/>
                      <a:pt x="13605" y="21229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9"/>
              <p:cNvSpPr/>
              <p:nvPr/>
            </p:nvSpPr>
            <p:spPr>
              <a:xfrm flipH="1">
                <a:off x="1881360" y="5183640"/>
                <a:ext cx="77400" cy="56880"/>
              </a:xfrm>
              <a:custGeom>
                <a:avLst/>
                <a:gdLst>
                  <a:gd name="textAreaLeft" fmla="*/ 38520 w 77400"/>
                  <a:gd name="textAreaRight" fmla="*/ 77400 w 77400"/>
                  <a:gd name="textAreaTop" fmla="*/ 720 h 56880"/>
                  <a:gd name="textAreaBottom" fmla="*/ 56160 h 56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717" y="171"/>
                    </a:moveTo>
                    <a:cubicBezTo>
                      <a:pt x="17859" y="1099"/>
                      <a:pt x="21600" y="5575"/>
                      <a:pt x="21600" y="10800"/>
                    </a:cubicBezTo>
                    <a:cubicBezTo>
                      <a:pt x="21600" y="15707"/>
                      <a:pt x="18291" y="19997"/>
                      <a:pt x="13545" y="21245"/>
                    </a:cubicBezTo>
                    <a:lnTo>
                      <a:pt x="10800" y="10800"/>
                    </a:lnTo>
                    <a:lnTo>
                      <a:pt x="12717" y="171"/>
                    </a:lnTo>
                    <a:close/>
                  </a:path>
                  <a:path fill="none" w="21600" h="21600">
                    <a:moveTo>
                      <a:pt x="12717" y="171"/>
                    </a:moveTo>
                    <a:cubicBezTo>
                      <a:pt x="17859" y="1099"/>
                      <a:pt x="21600" y="5575"/>
                      <a:pt x="21600" y="10800"/>
                    </a:cubicBezTo>
                    <a:cubicBezTo>
                      <a:pt x="21600" y="15707"/>
                      <a:pt x="18291" y="19997"/>
                      <a:pt x="13545" y="21245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20"/>
              <p:cNvSpPr/>
              <p:nvPr/>
            </p:nvSpPr>
            <p:spPr>
              <a:xfrm flipH="1">
                <a:off x="1902240" y="5192280"/>
                <a:ext cx="65160" cy="44640"/>
              </a:xfrm>
              <a:custGeom>
                <a:avLst/>
                <a:gdLst>
                  <a:gd name="textAreaLeft" fmla="*/ 32400 w 65160"/>
                  <a:gd name="textAreaRight" fmla="*/ 65160 w 65160"/>
                  <a:gd name="textAreaTop" fmla="*/ 720 h 44640"/>
                  <a:gd name="textAreaBottom" fmla="*/ 43920 h 44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866" y="199"/>
                    </a:moveTo>
                    <a:cubicBezTo>
                      <a:pt x="17939" y="1188"/>
                      <a:pt x="21600" y="5632"/>
                      <a:pt x="21600" y="10800"/>
                    </a:cubicBezTo>
                    <a:cubicBezTo>
                      <a:pt x="21600" y="15648"/>
                      <a:pt x="18368" y="19903"/>
                      <a:pt x="13697" y="21204"/>
                    </a:cubicBezTo>
                    <a:lnTo>
                      <a:pt x="10800" y="10800"/>
                    </a:lnTo>
                    <a:lnTo>
                      <a:pt x="12866" y="199"/>
                    </a:lnTo>
                    <a:close/>
                  </a:path>
                  <a:path fill="none" w="21600" h="21600">
                    <a:moveTo>
                      <a:pt x="12866" y="199"/>
                    </a:moveTo>
                    <a:cubicBezTo>
                      <a:pt x="17939" y="1188"/>
                      <a:pt x="21600" y="5632"/>
                      <a:pt x="21600" y="10800"/>
                    </a:cubicBezTo>
                    <a:cubicBezTo>
                      <a:pt x="21600" y="15648"/>
                      <a:pt x="18368" y="19903"/>
                      <a:pt x="13697" y="21204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21"/>
              <p:cNvSpPr/>
              <p:nvPr/>
            </p:nvSpPr>
            <p:spPr>
              <a:xfrm flipH="1">
                <a:off x="1922400" y="5198400"/>
                <a:ext cx="40320" cy="33480"/>
              </a:xfrm>
              <a:custGeom>
                <a:avLst/>
                <a:gdLst>
                  <a:gd name="textAreaLeft" fmla="*/ 20160 w 40320"/>
                  <a:gd name="textAreaRight" fmla="*/ 40320 w 40320"/>
                  <a:gd name="textAreaTop" fmla="*/ 0 h 33480"/>
                  <a:gd name="textAreaBottom" fmla="*/ 32760 h 334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801" y="186"/>
                    </a:moveTo>
                    <a:cubicBezTo>
                      <a:pt x="17904" y="1149"/>
                      <a:pt x="21600" y="5606"/>
                      <a:pt x="21600" y="10800"/>
                    </a:cubicBezTo>
                    <a:cubicBezTo>
                      <a:pt x="21600" y="15698"/>
                      <a:pt x="18302" y="19984"/>
                      <a:pt x="13567" y="21239"/>
                    </a:cubicBezTo>
                    <a:lnTo>
                      <a:pt x="10800" y="10800"/>
                    </a:lnTo>
                    <a:lnTo>
                      <a:pt x="12801" y="186"/>
                    </a:lnTo>
                    <a:close/>
                  </a:path>
                  <a:path fill="none" w="21600" h="21600">
                    <a:moveTo>
                      <a:pt x="12801" y="186"/>
                    </a:moveTo>
                    <a:cubicBezTo>
                      <a:pt x="17904" y="1149"/>
                      <a:pt x="21600" y="5606"/>
                      <a:pt x="21600" y="10800"/>
                    </a:cubicBezTo>
                    <a:cubicBezTo>
                      <a:pt x="21600" y="15698"/>
                      <a:pt x="18302" y="19984"/>
                      <a:pt x="13567" y="21239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Rectangle 22"/>
          <p:cNvSpPr/>
          <p:nvPr/>
        </p:nvSpPr>
        <p:spPr>
          <a:xfrm>
            <a:off x="1908000" y="4964040"/>
            <a:ext cx="582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4"/>
          <p:cNvGrpSpPr/>
          <p:nvPr/>
        </p:nvGrpSpPr>
        <p:grpSpPr>
          <a:xfrm>
            <a:off x="3879720" y="5121360"/>
            <a:ext cx="571680" cy="747720"/>
            <a:chOff x="3879720" y="5121360"/>
            <a:chExt cx="571680" cy="747720"/>
          </a:xfrm>
        </p:grpSpPr>
        <p:grpSp>
          <p:nvGrpSpPr>
            <p:cNvPr id="151" name="Group 25"/>
            <p:cNvGrpSpPr/>
            <p:nvPr/>
          </p:nvGrpSpPr>
          <p:grpSpPr>
            <a:xfrm>
              <a:off x="4080600" y="5200560"/>
              <a:ext cx="85320" cy="312840"/>
              <a:chOff x="4080600" y="5200560"/>
              <a:chExt cx="85320" cy="312840"/>
            </a:xfrm>
          </p:grpSpPr>
          <p:grpSp>
            <p:nvGrpSpPr>
              <p:cNvPr id="152" name="Group 26"/>
              <p:cNvGrpSpPr/>
              <p:nvPr/>
            </p:nvGrpSpPr>
            <p:grpSpPr>
              <a:xfrm>
                <a:off x="4120920" y="5200560"/>
                <a:ext cx="38880" cy="186120"/>
                <a:chOff x="4120920" y="5200560"/>
                <a:chExt cx="38880" cy="186120"/>
              </a:xfrm>
            </p:grpSpPr>
            <p:sp>
              <p:nvSpPr>
                <p:cNvPr id="153" name="Freeform 27"/>
                <p:cNvSpPr/>
                <p:nvPr/>
              </p:nvSpPr>
              <p:spPr>
                <a:xfrm>
                  <a:off x="4120920" y="5200560"/>
                  <a:ext cx="38880" cy="186120"/>
                </a:xfrm>
                <a:custGeom>
                  <a:avLst/>
                  <a:gdLst/>
                  <a:ahLst/>
                  <a:rect l="l" t="t" r="r" b="b"/>
                  <a:pathLst>
                    <a:path w="188" h="1629">
                      <a:moveTo>
                        <a:pt x="4" y="1629"/>
                      </a:moveTo>
                      <a:lnTo>
                        <a:pt x="1" y="1580"/>
                      </a:lnTo>
                      <a:lnTo>
                        <a:pt x="0" y="1532"/>
                      </a:lnTo>
                      <a:lnTo>
                        <a:pt x="1" y="1474"/>
                      </a:lnTo>
                      <a:lnTo>
                        <a:pt x="4" y="1411"/>
                      </a:lnTo>
                      <a:lnTo>
                        <a:pt x="8" y="1353"/>
                      </a:lnTo>
                      <a:lnTo>
                        <a:pt x="17" y="1309"/>
                      </a:lnTo>
                      <a:lnTo>
                        <a:pt x="30" y="1269"/>
                      </a:lnTo>
                      <a:lnTo>
                        <a:pt x="44" y="1232"/>
                      </a:lnTo>
                      <a:lnTo>
                        <a:pt x="70" y="66"/>
                      </a:lnTo>
                      <a:lnTo>
                        <a:pt x="73" y="34"/>
                      </a:lnTo>
                      <a:lnTo>
                        <a:pt x="81" y="10"/>
                      </a:lnTo>
                      <a:lnTo>
                        <a:pt x="95" y="0"/>
                      </a:lnTo>
                      <a:lnTo>
                        <a:pt x="119" y="1"/>
                      </a:lnTo>
                      <a:lnTo>
                        <a:pt x="133" y="12"/>
                      </a:lnTo>
                      <a:lnTo>
                        <a:pt x="142" y="38"/>
                      </a:lnTo>
                      <a:lnTo>
                        <a:pt x="143" y="70"/>
                      </a:lnTo>
                      <a:lnTo>
                        <a:pt x="119" y="1236"/>
                      </a:lnTo>
                      <a:lnTo>
                        <a:pt x="134" y="1254"/>
                      </a:lnTo>
                      <a:lnTo>
                        <a:pt x="150" y="1289"/>
                      </a:lnTo>
                      <a:lnTo>
                        <a:pt x="162" y="1334"/>
                      </a:lnTo>
                      <a:lnTo>
                        <a:pt x="169" y="1382"/>
                      </a:lnTo>
                      <a:lnTo>
                        <a:pt x="177" y="1431"/>
                      </a:lnTo>
                      <a:lnTo>
                        <a:pt x="180" y="1488"/>
                      </a:lnTo>
                      <a:lnTo>
                        <a:pt x="187" y="1572"/>
                      </a:lnTo>
                      <a:lnTo>
                        <a:pt x="188" y="1625"/>
                      </a:lnTo>
                      <a:lnTo>
                        <a:pt x="4" y="162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8"/>
                <p:cNvSpPr/>
                <p:nvPr/>
              </p:nvSpPr>
              <p:spPr>
                <a:xfrm flipH="1">
                  <a:off x="4135320" y="5210640"/>
                  <a:ext cx="6480" cy="149400"/>
                </a:xfrm>
                <a:prstGeom prst="line">
                  <a:avLst/>
                </a:prstGeom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Freeform 29"/>
              <p:cNvSpPr/>
              <p:nvPr/>
            </p:nvSpPr>
            <p:spPr>
              <a:xfrm rot="16200000">
                <a:off x="4055400" y="5402880"/>
                <a:ext cx="135360" cy="85320"/>
              </a:xfrm>
              <a:custGeom>
                <a:avLst/>
                <a:gdLst/>
                <a:ahLst/>
                <a:rect l="l" t="t" r="r" b="b"/>
                <a:pathLst>
                  <a:path w="497" h="807">
                    <a:moveTo>
                      <a:pt x="130" y="0"/>
                    </a:moveTo>
                    <a:lnTo>
                      <a:pt x="99" y="5"/>
                    </a:lnTo>
                    <a:lnTo>
                      <a:pt x="76" y="13"/>
                    </a:lnTo>
                    <a:lnTo>
                      <a:pt x="56" y="32"/>
                    </a:lnTo>
                    <a:lnTo>
                      <a:pt x="45" y="49"/>
                    </a:lnTo>
                    <a:lnTo>
                      <a:pt x="23" y="82"/>
                    </a:lnTo>
                    <a:lnTo>
                      <a:pt x="13" y="110"/>
                    </a:lnTo>
                    <a:lnTo>
                      <a:pt x="10" y="138"/>
                    </a:lnTo>
                    <a:lnTo>
                      <a:pt x="6" y="166"/>
                    </a:lnTo>
                    <a:lnTo>
                      <a:pt x="3" y="354"/>
                    </a:lnTo>
                    <a:lnTo>
                      <a:pt x="1" y="495"/>
                    </a:lnTo>
                    <a:lnTo>
                      <a:pt x="0" y="583"/>
                    </a:lnTo>
                    <a:lnTo>
                      <a:pt x="3" y="632"/>
                    </a:lnTo>
                    <a:lnTo>
                      <a:pt x="11" y="670"/>
                    </a:lnTo>
                    <a:lnTo>
                      <a:pt x="23" y="698"/>
                    </a:lnTo>
                    <a:lnTo>
                      <a:pt x="39" y="729"/>
                    </a:lnTo>
                    <a:lnTo>
                      <a:pt x="55" y="747"/>
                    </a:lnTo>
                    <a:lnTo>
                      <a:pt x="69" y="757"/>
                    </a:lnTo>
                    <a:lnTo>
                      <a:pt x="93" y="769"/>
                    </a:lnTo>
                    <a:lnTo>
                      <a:pt x="113" y="775"/>
                    </a:lnTo>
                    <a:lnTo>
                      <a:pt x="353" y="807"/>
                    </a:lnTo>
                    <a:lnTo>
                      <a:pt x="386" y="807"/>
                    </a:lnTo>
                    <a:lnTo>
                      <a:pt x="411" y="800"/>
                    </a:lnTo>
                    <a:lnTo>
                      <a:pt x="432" y="789"/>
                    </a:lnTo>
                    <a:lnTo>
                      <a:pt x="451" y="762"/>
                    </a:lnTo>
                    <a:lnTo>
                      <a:pt x="465" y="727"/>
                    </a:lnTo>
                    <a:lnTo>
                      <a:pt x="471" y="692"/>
                    </a:lnTo>
                    <a:lnTo>
                      <a:pt x="474" y="661"/>
                    </a:lnTo>
                    <a:lnTo>
                      <a:pt x="476" y="620"/>
                    </a:lnTo>
                    <a:lnTo>
                      <a:pt x="478" y="557"/>
                    </a:lnTo>
                    <a:lnTo>
                      <a:pt x="487" y="333"/>
                    </a:lnTo>
                    <a:lnTo>
                      <a:pt x="497" y="212"/>
                    </a:lnTo>
                    <a:lnTo>
                      <a:pt x="497" y="147"/>
                    </a:lnTo>
                    <a:lnTo>
                      <a:pt x="490" y="121"/>
                    </a:lnTo>
                    <a:lnTo>
                      <a:pt x="474" y="86"/>
                    </a:lnTo>
                    <a:lnTo>
                      <a:pt x="456" y="69"/>
                    </a:lnTo>
                    <a:lnTo>
                      <a:pt x="437" y="53"/>
                    </a:lnTo>
                    <a:lnTo>
                      <a:pt x="404" y="49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606060"/>
              </a:solidFill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 rot="16200000">
                <a:off x="4048920" y="5409000"/>
                <a:ext cx="132120" cy="69120"/>
              </a:xfrm>
              <a:custGeom>
                <a:avLst/>
                <a:gdLst/>
                <a:ahLst/>
                <a:rect l="l" t="t" r="r" b="b"/>
                <a:pathLst>
                  <a:path w="485" h="651">
                    <a:moveTo>
                      <a:pt x="0" y="99"/>
                    </a:moveTo>
                    <a:lnTo>
                      <a:pt x="461" y="651"/>
                    </a:lnTo>
                    <a:lnTo>
                      <a:pt x="482" y="208"/>
                    </a:lnTo>
                    <a:lnTo>
                      <a:pt x="485" y="166"/>
                    </a:lnTo>
                    <a:lnTo>
                      <a:pt x="481" y="141"/>
                    </a:lnTo>
                    <a:lnTo>
                      <a:pt x="475" y="121"/>
                    </a:lnTo>
                    <a:lnTo>
                      <a:pt x="468" y="103"/>
                    </a:lnTo>
                    <a:lnTo>
                      <a:pt x="456" y="88"/>
                    </a:lnTo>
                    <a:lnTo>
                      <a:pt x="441" y="70"/>
                    </a:lnTo>
                    <a:lnTo>
                      <a:pt x="419" y="56"/>
                    </a:lnTo>
                    <a:lnTo>
                      <a:pt x="387" y="50"/>
                    </a:lnTo>
                    <a:lnTo>
                      <a:pt x="357" y="42"/>
                    </a:lnTo>
                    <a:lnTo>
                      <a:pt x="153" y="4"/>
                    </a:lnTo>
                    <a:lnTo>
                      <a:pt x="113" y="0"/>
                    </a:lnTo>
                    <a:lnTo>
                      <a:pt x="80" y="6"/>
                    </a:lnTo>
                    <a:lnTo>
                      <a:pt x="61" y="14"/>
                    </a:lnTo>
                    <a:lnTo>
                      <a:pt x="45" y="26"/>
                    </a:lnTo>
                    <a:lnTo>
                      <a:pt x="32" y="42"/>
                    </a:lnTo>
                    <a:lnTo>
                      <a:pt x="21" y="56"/>
                    </a:lnTo>
                    <a:lnTo>
                      <a:pt x="9" y="7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7" name="Picture 31" descr=""/>
            <p:cNvPicPr/>
            <p:nvPr/>
          </p:nvPicPr>
          <p:blipFill>
            <a:blip r:embed="rId2"/>
            <a:stretch/>
          </p:blipFill>
          <p:spPr>
            <a:xfrm>
              <a:off x="3879720" y="5357880"/>
              <a:ext cx="571680" cy="51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Group 32"/>
            <p:cNvGrpSpPr/>
            <p:nvPr/>
          </p:nvGrpSpPr>
          <p:grpSpPr>
            <a:xfrm>
              <a:off x="3879720" y="5121360"/>
              <a:ext cx="271080" cy="160560"/>
              <a:chOff x="3879720" y="5121360"/>
              <a:chExt cx="271080" cy="160560"/>
            </a:xfrm>
          </p:grpSpPr>
          <p:grpSp>
            <p:nvGrpSpPr>
              <p:cNvPr id="159" name="Group 33"/>
              <p:cNvGrpSpPr/>
              <p:nvPr/>
            </p:nvGrpSpPr>
            <p:grpSpPr>
              <a:xfrm>
                <a:off x="3879720" y="5121360"/>
                <a:ext cx="176400" cy="160560"/>
                <a:chOff x="3879720" y="5121360"/>
                <a:chExt cx="176400" cy="160560"/>
              </a:xfrm>
            </p:grpSpPr>
            <p:sp>
              <p:nvSpPr>
                <p:cNvPr id="160" name="AutoShape 34"/>
                <p:cNvSpPr/>
                <p:nvPr/>
              </p:nvSpPr>
              <p:spPr>
                <a:xfrm flipH="1">
                  <a:off x="3879720" y="5121360"/>
                  <a:ext cx="144720" cy="160560"/>
                </a:xfrm>
                <a:custGeom>
                  <a:avLst/>
                  <a:gdLst>
                    <a:gd name="textAreaLeft" fmla="*/ 72360 w 144720"/>
                    <a:gd name="textAreaRight" fmla="*/ 145080 w 144720"/>
                    <a:gd name="textAreaTop" fmla="*/ 1440 h 160560"/>
                    <a:gd name="textAreaBottom" fmla="*/ 157320 h 1605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876" y="201"/>
                      </a:moveTo>
                      <a:cubicBezTo>
                        <a:pt x="17944" y="1194"/>
                        <a:pt x="21600" y="5636"/>
                        <a:pt x="21600" y="10800"/>
                      </a:cubicBezTo>
                      <a:cubicBezTo>
                        <a:pt x="21600" y="15669"/>
                        <a:pt x="18341" y="19936"/>
                        <a:pt x="13644" y="21218"/>
                      </a:cubicBezTo>
                      <a:lnTo>
                        <a:pt x="10800" y="10800"/>
                      </a:lnTo>
                      <a:lnTo>
                        <a:pt x="12876" y="201"/>
                      </a:lnTo>
                      <a:close/>
                    </a:path>
                    <a:path fill="none" w="21600" h="21600">
                      <a:moveTo>
                        <a:pt x="12876" y="201"/>
                      </a:moveTo>
                      <a:cubicBezTo>
                        <a:pt x="17944" y="1194"/>
                        <a:pt x="21600" y="5636"/>
                        <a:pt x="21600" y="10800"/>
                      </a:cubicBezTo>
                      <a:cubicBezTo>
                        <a:pt x="21600" y="15669"/>
                        <a:pt x="18341" y="19936"/>
                        <a:pt x="13644" y="21218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5"/>
                <p:cNvSpPr/>
                <p:nvPr/>
              </p:nvSpPr>
              <p:spPr>
                <a:xfrm flipH="1">
                  <a:off x="3909240" y="5131440"/>
                  <a:ext cx="125640" cy="138240"/>
                </a:xfrm>
                <a:custGeom>
                  <a:avLst/>
                  <a:gdLst>
                    <a:gd name="textAreaLeft" fmla="*/ 63000 w 125640"/>
                    <a:gd name="textAreaRight" fmla="*/ 126000 w 125640"/>
                    <a:gd name="textAreaTop" fmla="*/ 1440 h 138240"/>
                    <a:gd name="textAreaBottom" fmla="*/ 135720 h 13824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885" y="203"/>
                      </a:moveTo>
                      <a:cubicBezTo>
                        <a:pt x="17949" y="1200"/>
                        <a:pt x="21600" y="5639"/>
                        <a:pt x="21600" y="10800"/>
                      </a:cubicBezTo>
                      <a:cubicBezTo>
                        <a:pt x="21600" y="15682"/>
                        <a:pt x="18323" y="19958"/>
                        <a:pt x="13609" y="21228"/>
                      </a:cubicBezTo>
                      <a:lnTo>
                        <a:pt x="10800" y="10800"/>
                      </a:lnTo>
                      <a:lnTo>
                        <a:pt x="12885" y="203"/>
                      </a:lnTo>
                      <a:close/>
                    </a:path>
                    <a:path fill="none" w="21600" h="21600">
                      <a:moveTo>
                        <a:pt x="12885" y="203"/>
                      </a:moveTo>
                      <a:cubicBezTo>
                        <a:pt x="17949" y="1200"/>
                        <a:pt x="21600" y="5639"/>
                        <a:pt x="21600" y="10800"/>
                      </a:cubicBezTo>
                      <a:cubicBezTo>
                        <a:pt x="21600" y="15682"/>
                        <a:pt x="18323" y="19958"/>
                        <a:pt x="13609" y="21228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36"/>
                <p:cNvSpPr/>
                <p:nvPr/>
              </p:nvSpPr>
              <p:spPr>
                <a:xfrm flipH="1">
                  <a:off x="3940200" y="5143680"/>
                  <a:ext cx="115920" cy="115560"/>
                </a:xfrm>
                <a:custGeom>
                  <a:avLst/>
                  <a:gdLst>
                    <a:gd name="textAreaLeft" fmla="*/ 57960 w 115920"/>
                    <a:gd name="textAreaRight" fmla="*/ 116640 w 115920"/>
                    <a:gd name="textAreaTop" fmla="*/ 720 h 115560"/>
                    <a:gd name="textAreaBottom" fmla="*/ 113040 h 1155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940" y="214"/>
                      </a:moveTo>
                      <a:cubicBezTo>
                        <a:pt x="17978" y="1233"/>
                        <a:pt x="21600" y="5660"/>
                        <a:pt x="21600" y="10800"/>
                      </a:cubicBezTo>
                      <a:cubicBezTo>
                        <a:pt x="21600" y="15665"/>
                        <a:pt x="18346" y="19930"/>
                        <a:pt x="13654" y="21216"/>
                      </a:cubicBezTo>
                      <a:lnTo>
                        <a:pt x="10800" y="10800"/>
                      </a:lnTo>
                      <a:lnTo>
                        <a:pt x="12940" y="214"/>
                      </a:lnTo>
                      <a:close/>
                    </a:path>
                    <a:path fill="none" w="21600" h="21600">
                      <a:moveTo>
                        <a:pt x="12940" y="214"/>
                      </a:moveTo>
                      <a:cubicBezTo>
                        <a:pt x="17978" y="1233"/>
                        <a:pt x="21600" y="5660"/>
                        <a:pt x="21600" y="10800"/>
                      </a:cubicBezTo>
                      <a:cubicBezTo>
                        <a:pt x="21600" y="15665"/>
                        <a:pt x="18346" y="19930"/>
                        <a:pt x="13654" y="21216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7"/>
              <p:cNvGrpSpPr/>
              <p:nvPr/>
            </p:nvGrpSpPr>
            <p:grpSpPr>
              <a:xfrm>
                <a:off x="3966480" y="5152320"/>
                <a:ext cx="148680" cy="105120"/>
                <a:chOff x="3966480" y="5152320"/>
                <a:chExt cx="148680" cy="105120"/>
              </a:xfrm>
            </p:grpSpPr>
            <p:sp>
              <p:nvSpPr>
                <p:cNvPr id="164" name="AutoShape 38"/>
                <p:cNvSpPr/>
                <p:nvPr/>
              </p:nvSpPr>
              <p:spPr>
                <a:xfrm flipH="1">
                  <a:off x="3966480" y="5152320"/>
                  <a:ext cx="122400" cy="105120"/>
                </a:xfrm>
                <a:custGeom>
                  <a:avLst/>
                  <a:gdLst>
                    <a:gd name="textAreaLeft" fmla="*/ 61560 w 122400"/>
                    <a:gd name="textAreaRight" fmla="*/ 123120 w 122400"/>
                    <a:gd name="textAreaTop" fmla="*/ 720 h 105120"/>
                    <a:gd name="textAreaBottom" fmla="*/ 103680 h 1051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844" y="195"/>
                      </a:moveTo>
                      <a:cubicBezTo>
                        <a:pt x="17927" y="1175"/>
                        <a:pt x="21600" y="5623"/>
                        <a:pt x="21600" y="10800"/>
                      </a:cubicBezTo>
                      <a:cubicBezTo>
                        <a:pt x="21600" y="15695"/>
                        <a:pt x="18307" y="19978"/>
                        <a:pt x="13577" y="21236"/>
                      </a:cubicBezTo>
                      <a:lnTo>
                        <a:pt x="10800" y="10800"/>
                      </a:lnTo>
                      <a:lnTo>
                        <a:pt x="12844" y="195"/>
                      </a:lnTo>
                      <a:close/>
                    </a:path>
                    <a:path fill="none" w="21600" h="21600">
                      <a:moveTo>
                        <a:pt x="12844" y="195"/>
                      </a:moveTo>
                      <a:cubicBezTo>
                        <a:pt x="17927" y="1175"/>
                        <a:pt x="21600" y="5623"/>
                        <a:pt x="21600" y="10800"/>
                      </a:cubicBezTo>
                      <a:cubicBezTo>
                        <a:pt x="21600" y="15695"/>
                        <a:pt x="18307" y="19978"/>
                        <a:pt x="13577" y="21236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AutoShape 39"/>
                <p:cNvSpPr/>
                <p:nvPr/>
              </p:nvSpPr>
              <p:spPr>
                <a:xfrm flipH="1">
                  <a:off x="3991320" y="5158080"/>
                  <a:ext cx="105480" cy="90360"/>
                </a:xfrm>
                <a:custGeom>
                  <a:avLst/>
                  <a:gdLst>
                    <a:gd name="textAreaLeft" fmla="*/ 52200 w 105480"/>
                    <a:gd name="textAreaRight" fmla="*/ 105840 w 105480"/>
                    <a:gd name="textAreaTop" fmla="*/ 720 h 90360"/>
                    <a:gd name="textAreaBottom" fmla="*/ 88920 h 903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780" y="183"/>
                      </a:moveTo>
                      <a:cubicBezTo>
                        <a:pt x="17893" y="1137"/>
                        <a:pt x="21600" y="5599"/>
                        <a:pt x="21600" y="10800"/>
                      </a:cubicBezTo>
                      <a:cubicBezTo>
                        <a:pt x="21600" y="15744"/>
                        <a:pt x="18242" y="20057"/>
                        <a:pt x="13449" y="21270"/>
                      </a:cubicBezTo>
                      <a:lnTo>
                        <a:pt x="10800" y="10800"/>
                      </a:lnTo>
                      <a:lnTo>
                        <a:pt x="12780" y="183"/>
                      </a:lnTo>
                      <a:close/>
                    </a:path>
                    <a:path fill="none" w="21600" h="21600">
                      <a:moveTo>
                        <a:pt x="12780" y="183"/>
                      </a:moveTo>
                      <a:cubicBezTo>
                        <a:pt x="17893" y="1137"/>
                        <a:pt x="21600" y="5599"/>
                        <a:pt x="21600" y="10800"/>
                      </a:cubicBezTo>
                      <a:cubicBezTo>
                        <a:pt x="21600" y="15744"/>
                        <a:pt x="18242" y="20057"/>
                        <a:pt x="13449" y="21270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AutoShape 40"/>
                <p:cNvSpPr/>
                <p:nvPr/>
              </p:nvSpPr>
              <p:spPr>
                <a:xfrm flipH="1">
                  <a:off x="4016520" y="5166720"/>
                  <a:ext cx="98280" cy="75960"/>
                </a:xfrm>
                <a:custGeom>
                  <a:avLst/>
                  <a:gdLst>
                    <a:gd name="textAreaLeft" fmla="*/ 48600 w 98280"/>
                    <a:gd name="textAreaRight" fmla="*/ 98640 w 98280"/>
                    <a:gd name="textAreaTop" fmla="*/ 720 h 75960"/>
                    <a:gd name="textAreaBottom" fmla="*/ 74520 h 75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907" y="207"/>
                      </a:moveTo>
                      <a:cubicBezTo>
                        <a:pt x="17960" y="1213"/>
                        <a:pt x="21600" y="5647"/>
                        <a:pt x="21600" y="10800"/>
                      </a:cubicBezTo>
                      <a:cubicBezTo>
                        <a:pt x="21600" y="15668"/>
                        <a:pt x="18343" y="19934"/>
                        <a:pt x="13647" y="21217"/>
                      </a:cubicBezTo>
                      <a:lnTo>
                        <a:pt x="10800" y="10800"/>
                      </a:lnTo>
                      <a:lnTo>
                        <a:pt x="12907" y="207"/>
                      </a:lnTo>
                      <a:close/>
                    </a:path>
                    <a:path fill="none" w="21600" h="21600">
                      <a:moveTo>
                        <a:pt x="12907" y="207"/>
                      </a:moveTo>
                      <a:cubicBezTo>
                        <a:pt x="17960" y="1213"/>
                        <a:pt x="21600" y="5647"/>
                        <a:pt x="21600" y="10800"/>
                      </a:cubicBezTo>
                      <a:cubicBezTo>
                        <a:pt x="21600" y="15668"/>
                        <a:pt x="18343" y="19934"/>
                        <a:pt x="13647" y="21217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AutoShape 41"/>
              <p:cNvSpPr/>
              <p:nvPr/>
            </p:nvSpPr>
            <p:spPr>
              <a:xfrm flipH="1">
                <a:off x="4039560" y="5173200"/>
                <a:ext cx="88200" cy="66240"/>
              </a:xfrm>
              <a:custGeom>
                <a:avLst/>
                <a:gdLst>
                  <a:gd name="textAreaLeft" fmla="*/ 43560 w 88200"/>
                  <a:gd name="textAreaRight" fmla="*/ 88560 w 88200"/>
                  <a:gd name="textAreaTop" fmla="*/ 72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939" y="213"/>
                    </a:moveTo>
                    <a:cubicBezTo>
                      <a:pt x="17977" y="1231"/>
                      <a:pt x="21600" y="5659"/>
                      <a:pt x="21600" y="10800"/>
                    </a:cubicBezTo>
                    <a:cubicBezTo>
                      <a:pt x="21600" y="15684"/>
                      <a:pt x="18321" y="19960"/>
                      <a:pt x="13605" y="21229"/>
                    </a:cubicBezTo>
                    <a:lnTo>
                      <a:pt x="10800" y="10800"/>
                    </a:lnTo>
                    <a:lnTo>
                      <a:pt x="12939" y="213"/>
                    </a:lnTo>
                    <a:close/>
                  </a:path>
                  <a:path fill="none" w="21600" h="21600">
                    <a:moveTo>
                      <a:pt x="12939" y="213"/>
                    </a:moveTo>
                    <a:cubicBezTo>
                      <a:pt x="17977" y="1231"/>
                      <a:pt x="21600" y="5659"/>
                      <a:pt x="21600" y="10800"/>
                    </a:cubicBezTo>
                    <a:cubicBezTo>
                      <a:pt x="21600" y="15684"/>
                      <a:pt x="18321" y="19960"/>
                      <a:pt x="13605" y="21229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42"/>
              <p:cNvSpPr/>
              <p:nvPr/>
            </p:nvSpPr>
            <p:spPr>
              <a:xfrm flipH="1">
                <a:off x="4064400" y="5177520"/>
                <a:ext cx="77040" cy="56880"/>
              </a:xfrm>
              <a:custGeom>
                <a:avLst/>
                <a:gdLst>
                  <a:gd name="textAreaLeft" fmla="*/ 38520 w 77040"/>
                  <a:gd name="textAreaRight" fmla="*/ 77400 w 77040"/>
                  <a:gd name="textAreaTop" fmla="*/ 720 h 56880"/>
                  <a:gd name="textAreaBottom" fmla="*/ 56160 h 56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717" y="171"/>
                    </a:moveTo>
                    <a:cubicBezTo>
                      <a:pt x="17859" y="1099"/>
                      <a:pt x="21600" y="5575"/>
                      <a:pt x="21600" y="10800"/>
                    </a:cubicBezTo>
                    <a:cubicBezTo>
                      <a:pt x="21600" y="15707"/>
                      <a:pt x="18291" y="19997"/>
                      <a:pt x="13545" y="21245"/>
                    </a:cubicBezTo>
                    <a:lnTo>
                      <a:pt x="10800" y="10800"/>
                    </a:lnTo>
                    <a:lnTo>
                      <a:pt x="12717" y="171"/>
                    </a:lnTo>
                    <a:close/>
                  </a:path>
                  <a:path fill="none" w="21600" h="21600">
                    <a:moveTo>
                      <a:pt x="12717" y="171"/>
                    </a:moveTo>
                    <a:cubicBezTo>
                      <a:pt x="17859" y="1099"/>
                      <a:pt x="21600" y="5575"/>
                      <a:pt x="21600" y="10800"/>
                    </a:cubicBezTo>
                    <a:cubicBezTo>
                      <a:pt x="21600" y="15707"/>
                      <a:pt x="18291" y="19997"/>
                      <a:pt x="13545" y="21245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43"/>
              <p:cNvSpPr/>
              <p:nvPr/>
            </p:nvSpPr>
            <p:spPr>
              <a:xfrm flipH="1">
                <a:off x="4085280" y="5186160"/>
                <a:ext cx="65160" cy="44640"/>
              </a:xfrm>
              <a:custGeom>
                <a:avLst/>
                <a:gdLst>
                  <a:gd name="textAreaLeft" fmla="*/ 32400 w 65160"/>
                  <a:gd name="textAreaRight" fmla="*/ 65160 w 65160"/>
                  <a:gd name="textAreaTop" fmla="*/ 720 h 44640"/>
                  <a:gd name="textAreaBottom" fmla="*/ 43920 h 44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866" y="199"/>
                    </a:moveTo>
                    <a:cubicBezTo>
                      <a:pt x="17939" y="1188"/>
                      <a:pt x="21600" y="5632"/>
                      <a:pt x="21600" y="10800"/>
                    </a:cubicBezTo>
                    <a:cubicBezTo>
                      <a:pt x="21600" y="15648"/>
                      <a:pt x="18368" y="19903"/>
                      <a:pt x="13697" y="21204"/>
                    </a:cubicBezTo>
                    <a:lnTo>
                      <a:pt x="10800" y="10800"/>
                    </a:lnTo>
                    <a:lnTo>
                      <a:pt x="12866" y="199"/>
                    </a:lnTo>
                    <a:close/>
                  </a:path>
                  <a:path fill="none" w="21600" h="21600">
                    <a:moveTo>
                      <a:pt x="12866" y="199"/>
                    </a:moveTo>
                    <a:cubicBezTo>
                      <a:pt x="17939" y="1188"/>
                      <a:pt x="21600" y="5632"/>
                      <a:pt x="21600" y="10800"/>
                    </a:cubicBezTo>
                    <a:cubicBezTo>
                      <a:pt x="21600" y="15648"/>
                      <a:pt x="18368" y="19903"/>
                      <a:pt x="13697" y="21204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44"/>
              <p:cNvSpPr/>
              <p:nvPr/>
            </p:nvSpPr>
            <p:spPr>
              <a:xfrm flipH="1">
                <a:off x="4104000" y="5192280"/>
                <a:ext cx="39960" cy="33480"/>
              </a:xfrm>
              <a:custGeom>
                <a:avLst/>
                <a:gdLst>
                  <a:gd name="textAreaLeft" fmla="*/ 19800 w 39960"/>
                  <a:gd name="textAreaRight" fmla="*/ 39960 w 39960"/>
                  <a:gd name="textAreaTop" fmla="*/ 0 h 33480"/>
                  <a:gd name="textAreaBottom" fmla="*/ 32760 h 334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801" y="186"/>
                    </a:moveTo>
                    <a:cubicBezTo>
                      <a:pt x="17904" y="1149"/>
                      <a:pt x="21600" y="5606"/>
                      <a:pt x="21600" y="10800"/>
                    </a:cubicBezTo>
                    <a:cubicBezTo>
                      <a:pt x="21600" y="15698"/>
                      <a:pt x="18302" y="19984"/>
                      <a:pt x="13567" y="21239"/>
                    </a:cubicBezTo>
                    <a:lnTo>
                      <a:pt x="10800" y="10800"/>
                    </a:lnTo>
                    <a:lnTo>
                      <a:pt x="12801" y="186"/>
                    </a:lnTo>
                    <a:close/>
                  </a:path>
                  <a:path fill="none" w="21600" h="21600">
                    <a:moveTo>
                      <a:pt x="12801" y="186"/>
                    </a:moveTo>
                    <a:cubicBezTo>
                      <a:pt x="17904" y="1149"/>
                      <a:pt x="21600" y="5606"/>
                      <a:pt x="21600" y="10800"/>
                    </a:cubicBezTo>
                    <a:cubicBezTo>
                      <a:pt x="21600" y="15698"/>
                      <a:pt x="18302" y="19984"/>
                      <a:pt x="13567" y="21239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e 35840"/>
          <p:cNvGrpSpPr/>
          <p:nvPr/>
        </p:nvGrpSpPr>
        <p:grpSpPr>
          <a:xfrm>
            <a:off x="2627280" y="5157720"/>
            <a:ext cx="858960" cy="498600"/>
            <a:chOff x="2627280" y="5157720"/>
            <a:chExt cx="858960" cy="498600"/>
          </a:xfrm>
        </p:grpSpPr>
        <p:sp>
          <p:nvSpPr>
            <p:cNvPr id="172" name="Rectangle 23"/>
            <p:cNvSpPr/>
            <p:nvPr/>
          </p:nvSpPr>
          <p:spPr>
            <a:xfrm>
              <a:off x="2841840" y="5157720"/>
              <a:ext cx="322200" cy="373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200" spc="-1" strike="noStrike" baseline="-33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2627280" y="5655600"/>
              <a:ext cx="858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45"/>
          <p:cNvSpPr/>
          <p:nvPr/>
        </p:nvSpPr>
        <p:spPr>
          <a:xfrm>
            <a:off x="6651720" y="4998960"/>
            <a:ext cx="3222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0"/>
          <p:cNvGrpSpPr/>
          <p:nvPr/>
        </p:nvGrpSpPr>
        <p:grpSpPr>
          <a:xfrm>
            <a:off x="6300720" y="5129280"/>
            <a:ext cx="571680" cy="747720"/>
            <a:chOff x="6300720" y="5129280"/>
            <a:chExt cx="571680" cy="747720"/>
          </a:xfrm>
        </p:grpSpPr>
        <p:grpSp>
          <p:nvGrpSpPr>
            <p:cNvPr id="176" name="Group 51"/>
            <p:cNvGrpSpPr/>
            <p:nvPr/>
          </p:nvGrpSpPr>
          <p:grpSpPr>
            <a:xfrm>
              <a:off x="6501600" y="5208480"/>
              <a:ext cx="85320" cy="312840"/>
              <a:chOff x="6501600" y="5208480"/>
              <a:chExt cx="85320" cy="312840"/>
            </a:xfrm>
          </p:grpSpPr>
          <p:grpSp>
            <p:nvGrpSpPr>
              <p:cNvPr id="177" name="Group 52"/>
              <p:cNvGrpSpPr/>
              <p:nvPr/>
            </p:nvGrpSpPr>
            <p:grpSpPr>
              <a:xfrm>
                <a:off x="6541920" y="5208480"/>
                <a:ext cx="38880" cy="186120"/>
                <a:chOff x="6541920" y="5208480"/>
                <a:chExt cx="38880" cy="186120"/>
              </a:xfrm>
            </p:grpSpPr>
            <p:sp>
              <p:nvSpPr>
                <p:cNvPr id="178" name="Freeform 53"/>
                <p:cNvSpPr/>
                <p:nvPr/>
              </p:nvSpPr>
              <p:spPr>
                <a:xfrm>
                  <a:off x="6541920" y="5208480"/>
                  <a:ext cx="38880" cy="186120"/>
                </a:xfrm>
                <a:custGeom>
                  <a:avLst/>
                  <a:gdLst/>
                  <a:ahLst/>
                  <a:rect l="l" t="t" r="r" b="b"/>
                  <a:pathLst>
                    <a:path w="188" h="1629">
                      <a:moveTo>
                        <a:pt x="4" y="1629"/>
                      </a:moveTo>
                      <a:lnTo>
                        <a:pt x="1" y="1580"/>
                      </a:lnTo>
                      <a:lnTo>
                        <a:pt x="0" y="1532"/>
                      </a:lnTo>
                      <a:lnTo>
                        <a:pt x="1" y="1474"/>
                      </a:lnTo>
                      <a:lnTo>
                        <a:pt x="4" y="1411"/>
                      </a:lnTo>
                      <a:lnTo>
                        <a:pt x="8" y="1353"/>
                      </a:lnTo>
                      <a:lnTo>
                        <a:pt x="17" y="1309"/>
                      </a:lnTo>
                      <a:lnTo>
                        <a:pt x="30" y="1269"/>
                      </a:lnTo>
                      <a:lnTo>
                        <a:pt x="44" y="1232"/>
                      </a:lnTo>
                      <a:lnTo>
                        <a:pt x="70" y="66"/>
                      </a:lnTo>
                      <a:lnTo>
                        <a:pt x="73" y="34"/>
                      </a:lnTo>
                      <a:lnTo>
                        <a:pt x="81" y="10"/>
                      </a:lnTo>
                      <a:lnTo>
                        <a:pt x="95" y="0"/>
                      </a:lnTo>
                      <a:lnTo>
                        <a:pt x="119" y="1"/>
                      </a:lnTo>
                      <a:lnTo>
                        <a:pt x="133" y="12"/>
                      </a:lnTo>
                      <a:lnTo>
                        <a:pt x="142" y="38"/>
                      </a:lnTo>
                      <a:lnTo>
                        <a:pt x="143" y="70"/>
                      </a:lnTo>
                      <a:lnTo>
                        <a:pt x="119" y="1236"/>
                      </a:lnTo>
                      <a:lnTo>
                        <a:pt x="134" y="1254"/>
                      </a:lnTo>
                      <a:lnTo>
                        <a:pt x="150" y="1289"/>
                      </a:lnTo>
                      <a:lnTo>
                        <a:pt x="162" y="1334"/>
                      </a:lnTo>
                      <a:lnTo>
                        <a:pt x="169" y="1382"/>
                      </a:lnTo>
                      <a:lnTo>
                        <a:pt x="177" y="1431"/>
                      </a:lnTo>
                      <a:lnTo>
                        <a:pt x="180" y="1488"/>
                      </a:lnTo>
                      <a:lnTo>
                        <a:pt x="187" y="1572"/>
                      </a:lnTo>
                      <a:lnTo>
                        <a:pt x="188" y="1625"/>
                      </a:lnTo>
                      <a:lnTo>
                        <a:pt x="4" y="162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 flipH="1">
                  <a:off x="6556320" y="5218560"/>
                  <a:ext cx="6480" cy="149400"/>
                </a:xfrm>
                <a:prstGeom prst="line">
                  <a:avLst/>
                </a:prstGeom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Freeform 55"/>
              <p:cNvSpPr/>
              <p:nvPr/>
            </p:nvSpPr>
            <p:spPr>
              <a:xfrm rot="16200000">
                <a:off x="6476400" y="5410800"/>
                <a:ext cx="135360" cy="85320"/>
              </a:xfrm>
              <a:custGeom>
                <a:avLst/>
                <a:gdLst/>
                <a:ahLst/>
                <a:rect l="l" t="t" r="r" b="b"/>
                <a:pathLst>
                  <a:path w="497" h="807">
                    <a:moveTo>
                      <a:pt x="130" y="0"/>
                    </a:moveTo>
                    <a:lnTo>
                      <a:pt x="99" y="5"/>
                    </a:lnTo>
                    <a:lnTo>
                      <a:pt x="76" y="13"/>
                    </a:lnTo>
                    <a:lnTo>
                      <a:pt x="56" y="32"/>
                    </a:lnTo>
                    <a:lnTo>
                      <a:pt x="45" y="49"/>
                    </a:lnTo>
                    <a:lnTo>
                      <a:pt x="23" y="82"/>
                    </a:lnTo>
                    <a:lnTo>
                      <a:pt x="13" y="110"/>
                    </a:lnTo>
                    <a:lnTo>
                      <a:pt x="10" y="138"/>
                    </a:lnTo>
                    <a:lnTo>
                      <a:pt x="6" y="166"/>
                    </a:lnTo>
                    <a:lnTo>
                      <a:pt x="3" y="354"/>
                    </a:lnTo>
                    <a:lnTo>
                      <a:pt x="1" y="495"/>
                    </a:lnTo>
                    <a:lnTo>
                      <a:pt x="0" y="583"/>
                    </a:lnTo>
                    <a:lnTo>
                      <a:pt x="3" y="632"/>
                    </a:lnTo>
                    <a:lnTo>
                      <a:pt x="11" y="670"/>
                    </a:lnTo>
                    <a:lnTo>
                      <a:pt x="23" y="698"/>
                    </a:lnTo>
                    <a:lnTo>
                      <a:pt x="39" y="729"/>
                    </a:lnTo>
                    <a:lnTo>
                      <a:pt x="55" y="747"/>
                    </a:lnTo>
                    <a:lnTo>
                      <a:pt x="69" y="757"/>
                    </a:lnTo>
                    <a:lnTo>
                      <a:pt x="93" y="769"/>
                    </a:lnTo>
                    <a:lnTo>
                      <a:pt x="113" y="775"/>
                    </a:lnTo>
                    <a:lnTo>
                      <a:pt x="353" y="807"/>
                    </a:lnTo>
                    <a:lnTo>
                      <a:pt x="386" y="807"/>
                    </a:lnTo>
                    <a:lnTo>
                      <a:pt x="411" y="800"/>
                    </a:lnTo>
                    <a:lnTo>
                      <a:pt x="432" y="789"/>
                    </a:lnTo>
                    <a:lnTo>
                      <a:pt x="451" y="762"/>
                    </a:lnTo>
                    <a:lnTo>
                      <a:pt x="465" y="727"/>
                    </a:lnTo>
                    <a:lnTo>
                      <a:pt x="471" y="692"/>
                    </a:lnTo>
                    <a:lnTo>
                      <a:pt x="474" y="661"/>
                    </a:lnTo>
                    <a:lnTo>
                      <a:pt x="476" y="620"/>
                    </a:lnTo>
                    <a:lnTo>
                      <a:pt x="478" y="557"/>
                    </a:lnTo>
                    <a:lnTo>
                      <a:pt x="487" y="333"/>
                    </a:lnTo>
                    <a:lnTo>
                      <a:pt x="497" y="212"/>
                    </a:lnTo>
                    <a:lnTo>
                      <a:pt x="497" y="147"/>
                    </a:lnTo>
                    <a:lnTo>
                      <a:pt x="490" y="121"/>
                    </a:lnTo>
                    <a:lnTo>
                      <a:pt x="474" y="86"/>
                    </a:lnTo>
                    <a:lnTo>
                      <a:pt x="456" y="69"/>
                    </a:lnTo>
                    <a:lnTo>
                      <a:pt x="437" y="53"/>
                    </a:lnTo>
                    <a:lnTo>
                      <a:pt x="404" y="49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606060"/>
              </a:solidFill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6"/>
              <p:cNvSpPr/>
              <p:nvPr/>
            </p:nvSpPr>
            <p:spPr>
              <a:xfrm rot="16200000">
                <a:off x="6469920" y="5416920"/>
                <a:ext cx="132120" cy="69120"/>
              </a:xfrm>
              <a:custGeom>
                <a:avLst/>
                <a:gdLst/>
                <a:ahLst/>
                <a:rect l="l" t="t" r="r" b="b"/>
                <a:pathLst>
                  <a:path w="485" h="651">
                    <a:moveTo>
                      <a:pt x="0" y="99"/>
                    </a:moveTo>
                    <a:lnTo>
                      <a:pt x="461" y="651"/>
                    </a:lnTo>
                    <a:lnTo>
                      <a:pt x="482" y="208"/>
                    </a:lnTo>
                    <a:lnTo>
                      <a:pt x="485" y="166"/>
                    </a:lnTo>
                    <a:lnTo>
                      <a:pt x="481" y="141"/>
                    </a:lnTo>
                    <a:lnTo>
                      <a:pt x="475" y="121"/>
                    </a:lnTo>
                    <a:lnTo>
                      <a:pt x="468" y="103"/>
                    </a:lnTo>
                    <a:lnTo>
                      <a:pt x="456" y="88"/>
                    </a:lnTo>
                    <a:lnTo>
                      <a:pt x="441" y="70"/>
                    </a:lnTo>
                    <a:lnTo>
                      <a:pt x="419" y="56"/>
                    </a:lnTo>
                    <a:lnTo>
                      <a:pt x="387" y="50"/>
                    </a:lnTo>
                    <a:lnTo>
                      <a:pt x="357" y="42"/>
                    </a:lnTo>
                    <a:lnTo>
                      <a:pt x="153" y="4"/>
                    </a:lnTo>
                    <a:lnTo>
                      <a:pt x="113" y="0"/>
                    </a:lnTo>
                    <a:lnTo>
                      <a:pt x="80" y="6"/>
                    </a:lnTo>
                    <a:lnTo>
                      <a:pt x="61" y="14"/>
                    </a:lnTo>
                    <a:lnTo>
                      <a:pt x="45" y="26"/>
                    </a:lnTo>
                    <a:lnTo>
                      <a:pt x="32" y="42"/>
                    </a:lnTo>
                    <a:lnTo>
                      <a:pt x="21" y="56"/>
                    </a:lnTo>
                    <a:lnTo>
                      <a:pt x="9" y="7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57" descr=""/>
            <p:cNvPicPr/>
            <p:nvPr/>
          </p:nvPicPr>
          <p:blipFill>
            <a:blip r:embed="rId3"/>
            <a:stretch/>
          </p:blipFill>
          <p:spPr>
            <a:xfrm>
              <a:off x="6300720" y="5365800"/>
              <a:ext cx="571680" cy="51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Group 58"/>
            <p:cNvGrpSpPr/>
            <p:nvPr/>
          </p:nvGrpSpPr>
          <p:grpSpPr>
            <a:xfrm>
              <a:off x="6300720" y="5129280"/>
              <a:ext cx="271080" cy="160560"/>
              <a:chOff x="6300720" y="5129280"/>
              <a:chExt cx="271080" cy="160560"/>
            </a:xfrm>
          </p:grpSpPr>
          <p:grpSp>
            <p:nvGrpSpPr>
              <p:cNvPr id="184" name="Group 59"/>
              <p:cNvGrpSpPr/>
              <p:nvPr/>
            </p:nvGrpSpPr>
            <p:grpSpPr>
              <a:xfrm>
                <a:off x="6300720" y="5129280"/>
                <a:ext cx="176400" cy="160560"/>
                <a:chOff x="6300720" y="5129280"/>
                <a:chExt cx="176400" cy="160560"/>
              </a:xfrm>
            </p:grpSpPr>
            <p:sp>
              <p:nvSpPr>
                <p:cNvPr id="185" name="AutoShape 60"/>
                <p:cNvSpPr/>
                <p:nvPr/>
              </p:nvSpPr>
              <p:spPr>
                <a:xfrm flipH="1">
                  <a:off x="6300720" y="5129280"/>
                  <a:ext cx="144720" cy="160560"/>
                </a:xfrm>
                <a:custGeom>
                  <a:avLst/>
                  <a:gdLst>
                    <a:gd name="textAreaLeft" fmla="*/ 72360 w 144720"/>
                    <a:gd name="textAreaRight" fmla="*/ 145080 w 144720"/>
                    <a:gd name="textAreaTop" fmla="*/ 1440 h 160560"/>
                    <a:gd name="textAreaBottom" fmla="*/ 157320 h 1605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876" y="201"/>
                      </a:moveTo>
                      <a:cubicBezTo>
                        <a:pt x="17944" y="1194"/>
                        <a:pt x="21600" y="5636"/>
                        <a:pt x="21600" y="10800"/>
                      </a:cubicBezTo>
                      <a:cubicBezTo>
                        <a:pt x="21600" y="15669"/>
                        <a:pt x="18341" y="19936"/>
                        <a:pt x="13644" y="21218"/>
                      </a:cubicBezTo>
                      <a:lnTo>
                        <a:pt x="10800" y="10800"/>
                      </a:lnTo>
                      <a:lnTo>
                        <a:pt x="12876" y="201"/>
                      </a:lnTo>
                      <a:close/>
                    </a:path>
                    <a:path fill="none" w="21600" h="21600">
                      <a:moveTo>
                        <a:pt x="12876" y="201"/>
                      </a:moveTo>
                      <a:cubicBezTo>
                        <a:pt x="17944" y="1194"/>
                        <a:pt x="21600" y="5636"/>
                        <a:pt x="21600" y="10800"/>
                      </a:cubicBezTo>
                      <a:cubicBezTo>
                        <a:pt x="21600" y="15669"/>
                        <a:pt x="18341" y="19936"/>
                        <a:pt x="13644" y="21218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61"/>
                <p:cNvSpPr/>
                <p:nvPr/>
              </p:nvSpPr>
              <p:spPr>
                <a:xfrm flipH="1">
                  <a:off x="6330960" y="5139360"/>
                  <a:ext cx="125640" cy="138240"/>
                </a:xfrm>
                <a:custGeom>
                  <a:avLst/>
                  <a:gdLst>
                    <a:gd name="textAreaLeft" fmla="*/ 63000 w 125640"/>
                    <a:gd name="textAreaRight" fmla="*/ 126000 w 125640"/>
                    <a:gd name="textAreaTop" fmla="*/ 1440 h 138240"/>
                    <a:gd name="textAreaBottom" fmla="*/ 135720 h 13824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885" y="203"/>
                      </a:moveTo>
                      <a:cubicBezTo>
                        <a:pt x="17949" y="1200"/>
                        <a:pt x="21600" y="5639"/>
                        <a:pt x="21600" y="10800"/>
                      </a:cubicBezTo>
                      <a:cubicBezTo>
                        <a:pt x="21600" y="15682"/>
                        <a:pt x="18323" y="19958"/>
                        <a:pt x="13609" y="21228"/>
                      </a:cubicBezTo>
                      <a:lnTo>
                        <a:pt x="10800" y="10800"/>
                      </a:lnTo>
                      <a:lnTo>
                        <a:pt x="12885" y="203"/>
                      </a:lnTo>
                      <a:close/>
                    </a:path>
                    <a:path fill="none" w="21600" h="21600">
                      <a:moveTo>
                        <a:pt x="12885" y="203"/>
                      </a:moveTo>
                      <a:cubicBezTo>
                        <a:pt x="17949" y="1200"/>
                        <a:pt x="21600" y="5639"/>
                        <a:pt x="21600" y="10800"/>
                      </a:cubicBezTo>
                      <a:cubicBezTo>
                        <a:pt x="21600" y="15682"/>
                        <a:pt x="18323" y="19958"/>
                        <a:pt x="13609" y="21228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62"/>
                <p:cNvSpPr/>
                <p:nvPr/>
              </p:nvSpPr>
              <p:spPr>
                <a:xfrm flipH="1">
                  <a:off x="6361200" y="5151600"/>
                  <a:ext cx="115920" cy="115560"/>
                </a:xfrm>
                <a:custGeom>
                  <a:avLst/>
                  <a:gdLst>
                    <a:gd name="textAreaLeft" fmla="*/ 57960 w 115920"/>
                    <a:gd name="textAreaRight" fmla="*/ 116640 w 115920"/>
                    <a:gd name="textAreaTop" fmla="*/ 720 h 115560"/>
                    <a:gd name="textAreaBottom" fmla="*/ 113040 h 1155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940" y="214"/>
                      </a:moveTo>
                      <a:cubicBezTo>
                        <a:pt x="17978" y="1233"/>
                        <a:pt x="21600" y="5660"/>
                        <a:pt x="21600" y="10800"/>
                      </a:cubicBezTo>
                      <a:cubicBezTo>
                        <a:pt x="21600" y="15665"/>
                        <a:pt x="18346" y="19930"/>
                        <a:pt x="13654" y="21216"/>
                      </a:cubicBezTo>
                      <a:lnTo>
                        <a:pt x="10800" y="10800"/>
                      </a:lnTo>
                      <a:lnTo>
                        <a:pt x="12940" y="214"/>
                      </a:lnTo>
                      <a:close/>
                    </a:path>
                    <a:path fill="none" w="21600" h="21600">
                      <a:moveTo>
                        <a:pt x="12940" y="214"/>
                      </a:moveTo>
                      <a:cubicBezTo>
                        <a:pt x="17978" y="1233"/>
                        <a:pt x="21600" y="5660"/>
                        <a:pt x="21600" y="10800"/>
                      </a:cubicBezTo>
                      <a:cubicBezTo>
                        <a:pt x="21600" y="15665"/>
                        <a:pt x="18346" y="19930"/>
                        <a:pt x="13654" y="21216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Group 63"/>
              <p:cNvGrpSpPr/>
              <p:nvPr/>
            </p:nvGrpSpPr>
            <p:grpSpPr>
              <a:xfrm>
                <a:off x="6387480" y="5160240"/>
                <a:ext cx="148680" cy="105120"/>
                <a:chOff x="6387480" y="5160240"/>
                <a:chExt cx="148680" cy="105120"/>
              </a:xfrm>
            </p:grpSpPr>
            <p:sp>
              <p:nvSpPr>
                <p:cNvPr id="189" name="AutoShape 64"/>
                <p:cNvSpPr/>
                <p:nvPr/>
              </p:nvSpPr>
              <p:spPr>
                <a:xfrm flipH="1">
                  <a:off x="6387480" y="5160240"/>
                  <a:ext cx="122400" cy="105120"/>
                </a:xfrm>
                <a:custGeom>
                  <a:avLst/>
                  <a:gdLst>
                    <a:gd name="textAreaLeft" fmla="*/ 61560 w 122400"/>
                    <a:gd name="textAreaRight" fmla="*/ 123120 w 122400"/>
                    <a:gd name="textAreaTop" fmla="*/ 720 h 105120"/>
                    <a:gd name="textAreaBottom" fmla="*/ 103680 h 1051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844" y="195"/>
                      </a:moveTo>
                      <a:cubicBezTo>
                        <a:pt x="17927" y="1175"/>
                        <a:pt x="21600" y="5623"/>
                        <a:pt x="21600" y="10800"/>
                      </a:cubicBezTo>
                      <a:cubicBezTo>
                        <a:pt x="21600" y="15695"/>
                        <a:pt x="18307" y="19978"/>
                        <a:pt x="13577" y="21236"/>
                      </a:cubicBezTo>
                      <a:lnTo>
                        <a:pt x="10800" y="10800"/>
                      </a:lnTo>
                      <a:lnTo>
                        <a:pt x="12844" y="195"/>
                      </a:lnTo>
                      <a:close/>
                    </a:path>
                    <a:path fill="none" w="21600" h="21600">
                      <a:moveTo>
                        <a:pt x="12844" y="195"/>
                      </a:moveTo>
                      <a:cubicBezTo>
                        <a:pt x="17927" y="1175"/>
                        <a:pt x="21600" y="5623"/>
                        <a:pt x="21600" y="10800"/>
                      </a:cubicBezTo>
                      <a:cubicBezTo>
                        <a:pt x="21600" y="15695"/>
                        <a:pt x="18307" y="19978"/>
                        <a:pt x="13577" y="21236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65"/>
                <p:cNvSpPr/>
                <p:nvPr/>
              </p:nvSpPr>
              <p:spPr>
                <a:xfrm flipH="1">
                  <a:off x="6412320" y="5166000"/>
                  <a:ext cx="105480" cy="90360"/>
                </a:xfrm>
                <a:custGeom>
                  <a:avLst/>
                  <a:gdLst>
                    <a:gd name="textAreaLeft" fmla="*/ 52200 w 105480"/>
                    <a:gd name="textAreaRight" fmla="*/ 105840 w 105480"/>
                    <a:gd name="textAreaTop" fmla="*/ 720 h 90360"/>
                    <a:gd name="textAreaBottom" fmla="*/ 88920 h 903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780" y="183"/>
                      </a:moveTo>
                      <a:cubicBezTo>
                        <a:pt x="17893" y="1137"/>
                        <a:pt x="21600" y="5599"/>
                        <a:pt x="21600" y="10800"/>
                      </a:cubicBezTo>
                      <a:cubicBezTo>
                        <a:pt x="21600" y="15744"/>
                        <a:pt x="18242" y="20057"/>
                        <a:pt x="13449" y="21270"/>
                      </a:cubicBezTo>
                      <a:lnTo>
                        <a:pt x="10800" y="10800"/>
                      </a:lnTo>
                      <a:lnTo>
                        <a:pt x="12780" y="183"/>
                      </a:lnTo>
                      <a:close/>
                    </a:path>
                    <a:path fill="none" w="21600" h="21600">
                      <a:moveTo>
                        <a:pt x="12780" y="183"/>
                      </a:moveTo>
                      <a:cubicBezTo>
                        <a:pt x="17893" y="1137"/>
                        <a:pt x="21600" y="5599"/>
                        <a:pt x="21600" y="10800"/>
                      </a:cubicBezTo>
                      <a:cubicBezTo>
                        <a:pt x="21600" y="15744"/>
                        <a:pt x="18242" y="20057"/>
                        <a:pt x="13449" y="21270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AutoShape 66"/>
                <p:cNvSpPr/>
                <p:nvPr/>
              </p:nvSpPr>
              <p:spPr>
                <a:xfrm flipH="1">
                  <a:off x="6438240" y="5174640"/>
                  <a:ext cx="97920" cy="75960"/>
                </a:xfrm>
                <a:custGeom>
                  <a:avLst/>
                  <a:gdLst>
                    <a:gd name="textAreaLeft" fmla="*/ 48600 w 97920"/>
                    <a:gd name="textAreaRight" fmla="*/ 98280 w 97920"/>
                    <a:gd name="textAreaTop" fmla="*/ 720 h 75960"/>
                    <a:gd name="textAreaBottom" fmla="*/ 74520 h 75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907" y="207"/>
                      </a:moveTo>
                      <a:cubicBezTo>
                        <a:pt x="17960" y="1213"/>
                        <a:pt x="21600" y="5647"/>
                        <a:pt x="21600" y="10800"/>
                      </a:cubicBezTo>
                      <a:cubicBezTo>
                        <a:pt x="21600" y="15668"/>
                        <a:pt x="18343" y="19934"/>
                        <a:pt x="13647" y="21217"/>
                      </a:cubicBezTo>
                      <a:lnTo>
                        <a:pt x="10800" y="10800"/>
                      </a:lnTo>
                      <a:lnTo>
                        <a:pt x="12907" y="207"/>
                      </a:lnTo>
                      <a:close/>
                    </a:path>
                    <a:path fill="none" w="21600" h="21600">
                      <a:moveTo>
                        <a:pt x="12907" y="207"/>
                      </a:moveTo>
                      <a:cubicBezTo>
                        <a:pt x="17960" y="1213"/>
                        <a:pt x="21600" y="5647"/>
                        <a:pt x="21600" y="10800"/>
                      </a:cubicBezTo>
                      <a:cubicBezTo>
                        <a:pt x="21600" y="15668"/>
                        <a:pt x="18343" y="19934"/>
                        <a:pt x="13647" y="21217"/>
                      </a:cubicBezTo>
                    </a:path>
                  </a:pathLst>
                </a:cu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AutoShape 67"/>
              <p:cNvSpPr/>
              <p:nvPr/>
            </p:nvSpPr>
            <p:spPr>
              <a:xfrm flipH="1">
                <a:off x="6460200" y="5181120"/>
                <a:ext cx="88200" cy="66240"/>
              </a:xfrm>
              <a:custGeom>
                <a:avLst/>
                <a:gdLst>
                  <a:gd name="textAreaLeft" fmla="*/ 43560 w 88200"/>
                  <a:gd name="textAreaRight" fmla="*/ 88560 w 88200"/>
                  <a:gd name="textAreaTop" fmla="*/ 72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939" y="213"/>
                    </a:moveTo>
                    <a:cubicBezTo>
                      <a:pt x="17977" y="1231"/>
                      <a:pt x="21600" y="5659"/>
                      <a:pt x="21600" y="10800"/>
                    </a:cubicBezTo>
                    <a:cubicBezTo>
                      <a:pt x="21600" y="15684"/>
                      <a:pt x="18321" y="19960"/>
                      <a:pt x="13605" y="21229"/>
                    </a:cubicBezTo>
                    <a:lnTo>
                      <a:pt x="10800" y="10800"/>
                    </a:lnTo>
                    <a:lnTo>
                      <a:pt x="12939" y="213"/>
                    </a:lnTo>
                    <a:close/>
                  </a:path>
                  <a:path fill="none" w="21600" h="21600">
                    <a:moveTo>
                      <a:pt x="12939" y="213"/>
                    </a:moveTo>
                    <a:cubicBezTo>
                      <a:pt x="17977" y="1231"/>
                      <a:pt x="21600" y="5659"/>
                      <a:pt x="21600" y="10800"/>
                    </a:cubicBezTo>
                    <a:cubicBezTo>
                      <a:pt x="21600" y="15684"/>
                      <a:pt x="18321" y="19960"/>
                      <a:pt x="13605" y="21229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8"/>
              <p:cNvSpPr/>
              <p:nvPr/>
            </p:nvSpPr>
            <p:spPr>
              <a:xfrm flipH="1">
                <a:off x="6485400" y="5185440"/>
                <a:ext cx="77040" cy="56880"/>
              </a:xfrm>
              <a:custGeom>
                <a:avLst/>
                <a:gdLst>
                  <a:gd name="textAreaLeft" fmla="*/ 38520 w 77040"/>
                  <a:gd name="textAreaRight" fmla="*/ 77400 w 77040"/>
                  <a:gd name="textAreaTop" fmla="*/ 720 h 56880"/>
                  <a:gd name="textAreaBottom" fmla="*/ 56160 h 56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717" y="171"/>
                    </a:moveTo>
                    <a:cubicBezTo>
                      <a:pt x="17859" y="1099"/>
                      <a:pt x="21600" y="5575"/>
                      <a:pt x="21600" y="10800"/>
                    </a:cubicBezTo>
                    <a:cubicBezTo>
                      <a:pt x="21600" y="15707"/>
                      <a:pt x="18291" y="19997"/>
                      <a:pt x="13545" y="21245"/>
                    </a:cubicBezTo>
                    <a:lnTo>
                      <a:pt x="10800" y="10800"/>
                    </a:lnTo>
                    <a:lnTo>
                      <a:pt x="12717" y="171"/>
                    </a:lnTo>
                    <a:close/>
                  </a:path>
                  <a:path fill="none" w="21600" h="21600">
                    <a:moveTo>
                      <a:pt x="12717" y="171"/>
                    </a:moveTo>
                    <a:cubicBezTo>
                      <a:pt x="17859" y="1099"/>
                      <a:pt x="21600" y="5575"/>
                      <a:pt x="21600" y="10800"/>
                    </a:cubicBezTo>
                    <a:cubicBezTo>
                      <a:pt x="21600" y="15707"/>
                      <a:pt x="18291" y="19997"/>
                      <a:pt x="13545" y="21245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69"/>
              <p:cNvSpPr/>
              <p:nvPr/>
            </p:nvSpPr>
            <p:spPr>
              <a:xfrm flipH="1">
                <a:off x="6506280" y="5194080"/>
                <a:ext cx="65160" cy="44640"/>
              </a:xfrm>
              <a:custGeom>
                <a:avLst/>
                <a:gdLst>
                  <a:gd name="textAreaLeft" fmla="*/ 32400 w 65160"/>
                  <a:gd name="textAreaRight" fmla="*/ 65160 w 65160"/>
                  <a:gd name="textAreaTop" fmla="*/ 720 h 44640"/>
                  <a:gd name="textAreaBottom" fmla="*/ 43920 h 44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866" y="199"/>
                    </a:moveTo>
                    <a:cubicBezTo>
                      <a:pt x="17939" y="1188"/>
                      <a:pt x="21600" y="5632"/>
                      <a:pt x="21600" y="10800"/>
                    </a:cubicBezTo>
                    <a:cubicBezTo>
                      <a:pt x="21600" y="15648"/>
                      <a:pt x="18368" y="19903"/>
                      <a:pt x="13697" y="21204"/>
                    </a:cubicBezTo>
                    <a:lnTo>
                      <a:pt x="10800" y="10800"/>
                    </a:lnTo>
                    <a:lnTo>
                      <a:pt x="12866" y="199"/>
                    </a:lnTo>
                    <a:close/>
                  </a:path>
                  <a:path fill="none" w="21600" h="21600">
                    <a:moveTo>
                      <a:pt x="12866" y="199"/>
                    </a:moveTo>
                    <a:cubicBezTo>
                      <a:pt x="17939" y="1188"/>
                      <a:pt x="21600" y="5632"/>
                      <a:pt x="21600" y="10800"/>
                    </a:cubicBezTo>
                    <a:cubicBezTo>
                      <a:pt x="21600" y="15648"/>
                      <a:pt x="18368" y="19903"/>
                      <a:pt x="13697" y="21204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70"/>
              <p:cNvSpPr/>
              <p:nvPr/>
            </p:nvSpPr>
            <p:spPr>
              <a:xfrm flipH="1">
                <a:off x="6524640" y="5200200"/>
                <a:ext cx="39960" cy="33480"/>
              </a:xfrm>
              <a:custGeom>
                <a:avLst/>
                <a:gdLst>
                  <a:gd name="textAreaLeft" fmla="*/ 19800 w 39960"/>
                  <a:gd name="textAreaRight" fmla="*/ 39960 w 39960"/>
                  <a:gd name="textAreaTop" fmla="*/ 0 h 33480"/>
                  <a:gd name="textAreaBottom" fmla="*/ 32760 h 334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2801" y="186"/>
                    </a:moveTo>
                    <a:cubicBezTo>
                      <a:pt x="17904" y="1149"/>
                      <a:pt x="21600" y="5606"/>
                      <a:pt x="21600" y="10800"/>
                    </a:cubicBezTo>
                    <a:cubicBezTo>
                      <a:pt x="21600" y="15698"/>
                      <a:pt x="18302" y="19984"/>
                      <a:pt x="13567" y="21239"/>
                    </a:cubicBezTo>
                    <a:lnTo>
                      <a:pt x="10800" y="10800"/>
                    </a:lnTo>
                    <a:lnTo>
                      <a:pt x="12801" y="186"/>
                    </a:lnTo>
                    <a:close/>
                  </a:path>
                  <a:path fill="none" w="21600" h="21600">
                    <a:moveTo>
                      <a:pt x="12801" y="186"/>
                    </a:moveTo>
                    <a:cubicBezTo>
                      <a:pt x="17904" y="1149"/>
                      <a:pt x="21600" y="5606"/>
                      <a:pt x="21600" y="10800"/>
                    </a:cubicBezTo>
                    <a:cubicBezTo>
                      <a:pt x="21600" y="15698"/>
                      <a:pt x="18302" y="19984"/>
                      <a:pt x="13567" y="21239"/>
                    </a:cubicBezTo>
                  </a:path>
                </a:pathLst>
              </a:cu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Rectangle 117"/>
          <p:cNvSpPr/>
          <p:nvPr/>
        </p:nvSpPr>
        <p:spPr>
          <a:xfrm>
            <a:off x="5435640" y="5191200"/>
            <a:ext cx="336600" cy="398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8"/>
          <p:cNvSpPr/>
          <p:nvPr/>
        </p:nvSpPr>
        <p:spPr>
          <a:xfrm flipH="1">
            <a:off x="5148000" y="5661000"/>
            <a:ext cx="89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35839"/>
          <p:cNvGrpSpPr/>
          <p:nvPr/>
        </p:nvGrpSpPr>
        <p:grpSpPr>
          <a:xfrm>
            <a:off x="3354480" y="5732280"/>
            <a:ext cx="1577880" cy="457560"/>
            <a:chOff x="3354480" y="5732280"/>
            <a:chExt cx="1577880" cy="457560"/>
          </a:xfrm>
        </p:grpSpPr>
        <p:sp>
          <p:nvSpPr>
            <p:cNvPr id="199" name="Rectangle 47"/>
            <p:cNvSpPr/>
            <p:nvPr/>
          </p:nvSpPr>
          <p:spPr>
            <a:xfrm>
              <a:off x="3354480" y="5898960"/>
              <a:ext cx="277920" cy="273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0000"/>
                </a:gs>
              </a:gsLst>
              <a:lin ang="4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3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800" spc="-1" strike="noStrike" baseline="-33000">
                  <a:solidFill>
                    <a:srgbClr val="000000"/>
                  </a:solidFill>
                  <a:latin typeface="Arial"/>
                </a:rPr>
                <a:t>+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8"/>
            <p:cNvSpPr/>
            <p:nvPr/>
          </p:nvSpPr>
          <p:spPr>
            <a:xfrm>
              <a:off x="3707640" y="5804640"/>
              <a:ext cx="2116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9"/>
            <p:cNvSpPr/>
            <p:nvPr/>
          </p:nvSpPr>
          <p:spPr>
            <a:xfrm>
              <a:off x="4309560" y="5861160"/>
              <a:ext cx="20376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340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tarSymbo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1"/>
            <p:cNvSpPr/>
            <p:nvPr/>
          </p:nvSpPr>
          <p:spPr>
            <a:xfrm>
              <a:off x="4026960" y="5916600"/>
              <a:ext cx="277920" cy="255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33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2"/>
            <p:cNvSpPr/>
            <p:nvPr/>
          </p:nvSpPr>
          <p:spPr>
            <a:xfrm>
              <a:off x="4654440" y="5916600"/>
              <a:ext cx="277920" cy="273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3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3"/>
            <p:cNvSpPr/>
            <p:nvPr/>
          </p:nvSpPr>
          <p:spPr>
            <a:xfrm>
              <a:off x="4212360" y="5734440"/>
              <a:ext cx="648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64"/>
            <p:cNvSpPr/>
            <p:nvPr/>
          </p:nvSpPr>
          <p:spPr>
            <a:xfrm flipH="1" flipV="1">
              <a:off x="3624480" y="5732280"/>
              <a:ext cx="5882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Freeform 22"/>
          <p:cNvSpPr/>
          <p:nvPr/>
        </p:nvSpPr>
        <p:spPr>
          <a:xfrm>
            <a:off x="2641680" y="3502080"/>
            <a:ext cx="2062080" cy="1225440"/>
          </a:xfrm>
          <a:custGeom>
            <a:avLst/>
            <a:gdLst/>
            <a:ahLst/>
            <a:rect l="l" t="t" r="r" b="b"/>
            <a:pathLst>
              <a:path w="1375" h="1240">
                <a:moveTo>
                  <a:pt x="279" y="144"/>
                </a:moveTo>
                <a:cubicBezTo>
                  <a:pt x="324" y="91"/>
                  <a:pt x="445" y="0"/>
                  <a:pt x="551" y="8"/>
                </a:cubicBezTo>
                <a:cubicBezTo>
                  <a:pt x="657" y="16"/>
                  <a:pt x="786" y="167"/>
                  <a:pt x="914" y="190"/>
                </a:cubicBezTo>
                <a:cubicBezTo>
                  <a:pt x="1042" y="213"/>
                  <a:pt x="1269" y="53"/>
                  <a:pt x="1322" y="144"/>
                </a:cubicBezTo>
                <a:cubicBezTo>
                  <a:pt x="1375" y="235"/>
                  <a:pt x="1314" y="598"/>
                  <a:pt x="1231" y="734"/>
                </a:cubicBezTo>
                <a:cubicBezTo>
                  <a:pt x="1148" y="870"/>
                  <a:pt x="936" y="878"/>
                  <a:pt x="823" y="961"/>
                </a:cubicBezTo>
                <a:cubicBezTo>
                  <a:pt x="710" y="1044"/>
                  <a:pt x="649" y="1240"/>
                  <a:pt x="551" y="1233"/>
                </a:cubicBezTo>
                <a:cubicBezTo>
                  <a:pt x="453" y="1226"/>
                  <a:pt x="325" y="1037"/>
                  <a:pt x="234" y="916"/>
                </a:cubicBezTo>
                <a:cubicBezTo>
                  <a:pt x="143" y="795"/>
                  <a:pt x="0" y="605"/>
                  <a:pt x="7" y="507"/>
                </a:cubicBezTo>
                <a:cubicBezTo>
                  <a:pt x="14" y="409"/>
                  <a:pt x="234" y="386"/>
                  <a:pt x="279" y="326"/>
                </a:cubicBezTo>
                <a:cubicBezTo>
                  <a:pt x="324" y="266"/>
                  <a:pt x="234" y="197"/>
                  <a:pt x="279" y="144"/>
                </a:cubicBez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1"/>
          <p:cNvGrpSpPr/>
          <p:nvPr/>
        </p:nvGrpSpPr>
        <p:grpSpPr>
          <a:xfrm>
            <a:off x="2198520" y="4010040"/>
            <a:ext cx="273240" cy="257040"/>
            <a:chOff x="2198520" y="4010040"/>
            <a:chExt cx="273240" cy="257040"/>
          </a:xfrm>
        </p:grpSpPr>
        <p:sp>
          <p:nvSpPr>
            <p:cNvPr id="208" name="Oval 32"/>
            <p:cNvSpPr/>
            <p:nvPr/>
          </p:nvSpPr>
          <p:spPr>
            <a:xfrm>
              <a:off x="2198520" y="4010040"/>
              <a:ext cx="273240" cy="257040"/>
            </a:xfrm>
            <a:prstGeom prst="ellipse">
              <a:avLst/>
            </a:prstGeom>
            <a:solidFill>
              <a:srgbClr val="99cc00">
                <a:alpha val="34000"/>
              </a:srgbClr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3"/>
            <p:cNvSpPr/>
            <p:nvPr/>
          </p:nvSpPr>
          <p:spPr>
            <a:xfrm>
              <a:off x="2321280" y="4123800"/>
              <a:ext cx="27000" cy="2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e 35846"/>
          <p:cNvGrpSpPr/>
          <p:nvPr/>
        </p:nvGrpSpPr>
        <p:grpSpPr>
          <a:xfrm>
            <a:off x="2941560" y="3565440"/>
            <a:ext cx="1470240" cy="1149480"/>
            <a:chOff x="2941560" y="3565440"/>
            <a:chExt cx="1470240" cy="1149480"/>
          </a:xfrm>
        </p:grpSpPr>
        <p:sp>
          <p:nvSpPr>
            <p:cNvPr id="211" name="Oval 14"/>
            <p:cNvSpPr/>
            <p:nvPr/>
          </p:nvSpPr>
          <p:spPr>
            <a:xfrm>
              <a:off x="3174840" y="372312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3427920" y="356544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6"/>
            <p:cNvSpPr/>
            <p:nvPr/>
          </p:nvSpPr>
          <p:spPr>
            <a:xfrm>
              <a:off x="4123800" y="366372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"/>
            <p:cNvSpPr/>
            <p:nvPr/>
          </p:nvSpPr>
          <p:spPr>
            <a:xfrm>
              <a:off x="3713760" y="443484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8"/>
            <p:cNvSpPr/>
            <p:nvPr/>
          </p:nvSpPr>
          <p:spPr>
            <a:xfrm>
              <a:off x="3606840" y="3848400"/>
              <a:ext cx="84600" cy="730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9"/>
            <p:cNvSpPr/>
            <p:nvPr/>
          </p:nvSpPr>
          <p:spPr>
            <a:xfrm>
              <a:off x="4327200" y="395748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3134520" y="406476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3974040" y="390816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3"/>
            <p:cNvSpPr/>
            <p:nvPr/>
          </p:nvSpPr>
          <p:spPr>
            <a:xfrm>
              <a:off x="2941560" y="429516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4"/>
            <p:cNvSpPr/>
            <p:nvPr/>
          </p:nvSpPr>
          <p:spPr>
            <a:xfrm>
              <a:off x="3393000" y="3822840"/>
              <a:ext cx="1897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5"/>
            <p:cNvSpPr/>
            <p:nvPr/>
          </p:nvSpPr>
          <p:spPr>
            <a:xfrm>
              <a:off x="3558600" y="3696480"/>
              <a:ext cx="8820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6"/>
            <p:cNvSpPr/>
            <p:nvPr/>
          </p:nvSpPr>
          <p:spPr>
            <a:xfrm flipH="1">
              <a:off x="3891600" y="3759840"/>
              <a:ext cx="1710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7"/>
            <p:cNvSpPr/>
            <p:nvPr/>
          </p:nvSpPr>
          <p:spPr>
            <a:xfrm flipH="1">
              <a:off x="4203720" y="4088520"/>
              <a:ext cx="7596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 flipH="1" flipV="1">
              <a:off x="3545280" y="4359960"/>
              <a:ext cx="1494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>
              <a:off x="3280320" y="4185720"/>
              <a:ext cx="7308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0"/>
            <p:cNvSpPr/>
            <p:nvPr/>
          </p:nvSpPr>
          <p:spPr>
            <a:xfrm flipH="1" flipV="1">
              <a:off x="3817800" y="3925080"/>
              <a:ext cx="11376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41"/>
            <p:cNvSpPr/>
            <p:nvPr/>
          </p:nvSpPr>
          <p:spPr>
            <a:xfrm>
              <a:off x="3432240" y="464184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42"/>
            <p:cNvSpPr/>
            <p:nvPr/>
          </p:nvSpPr>
          <p:spPr>
            <a:xfrm>
              <a:off x="3350160" y="4435560"/>
              <a:ext cx="84600" cy="730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43"/>
            <p:cNvSpPr/>
            <p:nvPr/>
          </p:nvSpPr>
          <p:spPr>
            <a:xfrm>
              <a:off x="4068360" y="4076640"/>
              <a:ext cx="84600" cy="730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44"/>
            <p:cNvSpPr/>
            <p:nvPr/>
          </p:nvSpPr>
          <p:spPr>
            <a:xfrm>
              <a:off x="3782520" y="415404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5"/>
            <p:cNvSpPr/>
            <p:nvPr/>
          </p:nvSpPr>
          <p:spPr>
            <a:xfrm>
              <a:off x="3953520" y="4212000"/>
              <a:ext cx="92880" cy="3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6"/>
            <p:cNvSpPr/>
            <p:nvPr/>
          </p:nvSpPr>
          <p:spPr>
            <a:xfrm flipH="1" flipV="1">
              <a:off x="3395520" y="4512240"/>
              <a:ext cx="194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47"/>
            <p:cNvSpPr/>
            <p:nvPr/>
          </p:nvSpPr>
          <p:spPr>
            <a:xfrm>
              <a:off x="3459240" y="4090680"/>
              <a:ext cx="84600" cy="730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8"/>
            <p:cNvSpPr/>
            <p:nvPr/>
          </p:nvSpPr>
          <p:spPr>
            <a:xfrm flipH="1">
              <a:off x="3461400" y="4232520"/>
              <a:ext cx="54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49"/>
            <p:cNvSpPr/>
            <p:nvPr/>
          </p:nvSpPr>
          <p:spPr>
            <a:xfrm>
              <a:off x="3117240" y="4352040"/>
              <a:ext cx="13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0"/>
            <p:cNvSpPr/>
            <p:nvPr/>
          </p:nvSpPr>
          <p:spPr>
            <a:xfrm>
              <a:off x="4059000" y="4059000"/>
              <a:ext cx="2052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1"/>
            <p:cNvSpPr/>
            <p:nvPr/>
          </p:nvSpPr>
          <p:spPr>
            <a:xfrm flipH="1">
              <a:off x="3564360" y="4239720"/>
              <a:ext cx="1382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2"/>
            <p:cNvSpPr/>
            <p:nvPr/>
          </p:nvSpPr>
          <p:spPr>
            <a:xfrm flipV="1">
              <a:off x="3529080" y="3918600"/>
              <a:ext cx="6084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3"/>
            <p:cNvSpPr/>
            <p:nvPr/>
          </p:nvSpPr>
          <p:spPr>
            <a:xfrm flipV="1">
              <a:off x="3348720" y="3973680"/>
              <a:ext cx="15588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4"/>
            <p:cNvSpPr/>
            <p:nvPr/>
          </p:nvSpPr>
          <p:spPr>
            <a:xfrm flipH="1" flipV="1">
              <a:off x="3719880" y="3968280"/>
              <a:ext cx="7020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1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49676E-006 C 0.02239 -0.03793 0.05642 -0.06198 0.09444 -0.06198 C 0.13194 -0.06198 0.16597 -0.03793 0.18906 3.49676E-006 C 0.16597 0.03792 0.13194 0.06198 0.09444 0.06198 C 0.05642 0.06198 0.02239 0.03792 4.72222E-006 3.49676E-006 Z">
                                      <p:cBhvr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Future Project-Team: W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052280"/>
            <a:ext cx="8640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INRIA positio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mon points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aph theory: G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ynamic complex networks: D-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et wired infrastructure (grid computing): Planete, R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cation layer: 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nomous network management: Mady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thodology of evolution &amp; optimization: TREC, 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ny wireless devices:  F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ysical &amp; MAC layers: S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AND is more focused on wireless networks &amp; network lay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AND addresses communication protocols from design, modeling, experimentation to standard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CC05-B896-43E8-809B-4665C61E277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29F4-FEDC-494A-A3FC-6571E848337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3970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chnion: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ICTA, Macquarie Univ.: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deral universities: 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Berlin, Freie Univ. Berlin: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iigata Univ.: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T: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rdue Univ., UCLA, WMU: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C: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pienza Univ., Catania Univ.: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I: Tun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IAS: Mor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Future Project-Team: W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741920" y="1258920"/>
            <a:ext cx="3970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aunhoffer, Daviko: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itachi, Toyota: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isco, JCI: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gma Designs: 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931760" indent="-3747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2"/>
          <p:cNvSpPr/>
          <p:nvPr/>
        </p:nvSpPr>
        <p:spPr>
          <a:xfrm>
            <a:off x="2244960" y="868320"/>
            <a:ext cx="55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Selected International collab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Future Project-Team : W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052280"/>
            <a:ext cx="84963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Permanent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cale Minet (Rocquencou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ul Muhlethaler (Rocquencou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dric Adjih (Rocquencou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manuel Baccelli (Sac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ine Carneiro Viana (Sac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 5 PhD Students + 1 Post-Doc+ 2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45C9-FF9B-4839-AE3E-E95A486D60C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Future Project-Team : W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000" y="1052280"/>
            <a:ext cx="84963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B69-A9C3-47DF-AD1B-0B975C811C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2271600"/>
          <a:ext cx="7920000" cy="3318120"/>
        </p:xfrm>
        <a:graphic>
          <a:graphicData uri="http://schemas.openxmlformats.org/drawingml/2006/table">
            <a:tbl>
              <a:tblPr/>
              <a:tblGrid>
                <a:gridCol w="2490840"/>
                <a:gridCol w="1219320"/>
                <a:gridCol w="1218960"/>
                <a:gridCol w="1219320"/>
                <a:gridCol w="177156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ad hoc net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h net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eless sensor net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ruption tolerant net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e Mi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Muhletha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dric Adji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manuel Bacce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ne Carneiro V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8. Future Project-Team : W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000" y="1052280"/>
            <a:ext cx="84963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F31B-2621-498B-B541-B6068B0593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50920" y="2205000"/>
          <a:ext cx="8713800" cy="2494080"/>
        </p:xfrm>
        <a:graphic>
          <a:graphicData uri="http://schemas.openxmlformats.org/drawingml/2006/table">
            <a:tbl>
              <a:tblPr/>
              <a:tblGrid>
                <a:gridCol w="2562120"/>
                <a:gridCol w="1041480"/>
                <a:gridCol w="1041480"/>
                <a:gridCol w="1041120"/>
                <a:gridCol w="1514520"/>
                <a:gridCol w="1513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/Opt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e Mi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Muhletha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dric Adji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manuel Bacce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ne Carneiro V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9:58:14Z</dcterms:created>
  <dc:creator>P. Minet</dc:creator>
  <dc:description/>
  <dc:language>en-US</dc:language>
  <cp:lastModifiedBy>Pascale MINET</cp:lastModifiedBy>
  <cp:lastPrinted>2012-03-08T08:22:02Z</cp:lastPrinted>
  <dcterms:modified xsi:type="dcterms:W3CDTF">2012-03-22T15:03:22Z</dcterms:modified>
  <cp:revision>422</cp:revision>
  <dc:subject/>
  <dc:title>Diapositive 1</dc:title>
</cp:coreProperties>
</file>